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DA8-B74A-47A4-8D5A-DE5D0F72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5D2-4ADB-4F11-90C3-2986C3B3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913-A2D5-4B2A-8C5A-7D2C3101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0AE-CEBC-44BA-AE7C-DD1B86B4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9F2-08B7-4CFC-AACB-C5570C2D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FA5-5058-44E5-980C-4D095ABC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6A5-4F02-4761-ADC3-CD031269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F29-9993-45B4-A8E2-093D57C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CCA-5DE3-44F1-99DD-FEA9A96F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F53-FD9C-4E8C-A184-9854DE2F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85E-3C2A-4FAF-A7F3-EB891AD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BFB-DBB6-43F2-A83E-E5A62AE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BC25-09D1-415B-AAFE-C3E84C8DE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rm-up:  MSA Practice Day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2004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Identify and describe the parts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set of all points in a plane that are the same distance from a point called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adi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) is the distance from the center to any point on the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Dia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) is the distance across the circle through its center. (diameter is twice the 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800600"/>
            <a:ext cx="190476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bbe0e3">
              <a:alpha val="31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67080" y="5181480"/>
            <a:ext cx="762120" cy="457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4800600"/>
            <a:ext cx="75960" cy="16765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1768320"/>
            <a:ext cx="6350040" cy="446400"/>
          </a:xfrm>
          <a:custGeom>
            <a:avLst/>
            <a:gdLst/>
            <a:ahLst/>
            <a:rect l="l" t="t" r="r" b="b"/>
            <a:pathLst>
              <a:path w="17637" h="1242">
                <a:moveTo>
                  <a:pt x="2381" y="5035"/>
                </a:moveTo>
                <a:cubicBezTo>
                  <a:pt x="2458" y="5041"/>
                  <a:pt x="2527" y="5057"/>
                  <a:pt x="2604" y="5060"/>
                </a:cubicBezTo>
                <a:cubicBezTo>
                  <a:pt x="2740" y="5065"/>
                  <a:pt x="2869" y="5070"/>
                  <a:pt x="3001" y="5085"/>
                </a:cubicBezTo>
                <a:cubicBezTo>
                  <a:pt x="3108" y="5097"/>
                  <a:pt x="3219" y="5099"/>
                  <a:pt x="3324" y="5110"/>
                </a:cubicBezTo>
                <a:cubicBezTo>
                  <a:pt x="3392" y="5117"/>
                  <a:pt x="3458" y="5125"/>
                  <a:pt x="3522" y="5135"/>
                </a:cubicBezTo>
                <a:cubicBezTo>
                  <a:pt x="3795" y="5178"/>
                  <a:pt x="4115" y="5135"/>
                  <a:pt x="4390" y="5135"/>
                </a:cubicBezTo>
              </a:path>
              <a:path w="17637" h="1242">
                <a:moveTo>
                  <a:pt x="9599" y="4936"/>
                </a:moveTo>
                <a:cubicBezTo>
                  <a:pt x="9661" y="4919"/>
                  <a:pt x="9698" y="4913"/>
                  <a:pt x="9773" y="4911"/>
                </a:cubicBezTo>
                <a:cubicBezTo>
                  <a:pt x="9965" y="4905"/>
                  <a:pt x="10157" y="4915"/>
                  <a:pt x="10344" y="4936"/>
                </a:cubicBezTo>
                <a:cubicBezTo>
                  <a:pt x="10475" y="4951"/>
                  <a:pt x="10611" y="4947"/>
                  <a:pt x="10740" y="4961"/>
                </a:cubicBezTo>
                <a:cubicBezTo>
                  <a:pt x="10843" y="4973"/>
                  <a:pt x="10973" y="4977"/>
                  <a:pt x="11063" y="4986"/>
                </a:cubicBezTo>
                <a:cubicBezTo>
                  <a:pt x="11268" y="5007"/>
                  <a:pt x="11484" y="4988"/>
                  <a:pt x="11683" y="5011"/>
                </a:cubicBezTo>
                <a:cubicBezTo>
                  <a:pt x="11786" y="5023"/>
                  <a:pt x="11883" y="4997"/>
                  <a:pt x="11981" y="4986"/>
                </a:cubicBezTo>
                <a:cubicBezTo>
                  <a:pt x="12100" y="4973"/>
                  <a:pt x="12211" y="5007"/>
                  <a:pt x="12328" y="5011"/>
                </a:cubicBezTo>
                <a:cubicBezTo>
                  <a:pt x="12551" y="5019"/>
                  <a:pt x="12775" y="5011"/>
                  <a:pt x="12998" y="5011"/>
                </a:cubicBezTo>
              </a:path>
              <a:path w="17637" h="1242">
                <a:moveTo>
                  <a:pt x="2381" y="6152"/>
                </a:moveTo>
                <a:cubicBezTo>
                  <a:pt x="2499" y="6108"/>
                  <a:pt x="2553" y="6083"/>
                  <a:pt x="2679" y="6077"/>
                </a:cubicBezTo>
                <a:cubicBezTo>
                  <a:pt x="3046" y="6058"/>
                  <a:pt x="3458" y="6022"/>
                  <a:pt x="3820" y="6052"/>
                </a:cubicBezTo>
                <a:cubicBezTo>
                  <a:pt x="4034" y="6070"/>
                  <a:pt x="4225" y="6062"/>
                  <a:pt x="4440" y="6052"/>
                </a:cubicBezTo>
                <a:cubicBezTo>
                  <a:pt x="4691" y="6041"/>
                  <a:pt x="4934" y="5995"/>
                  <a:pt x="5184" y="5978"/>
                </a:cubicBezTo>
                <a:cubicBezTo>
                  <a:pt x="5377" y="5965"/>
                  <a:pt x="5562" y="5982"/>
                  <a:pt x="5755" y="5953"/>
                </a:cubicBezTo>
                <a:cubicBezTo>
                  <a:pt x="6008" y="5915"/>
                  <a:pt x="6268" y="5908"/>
                  <a:pt x="6524" y="5904"/>
                </a:cubicBezTo>
                <a:cubicBezTo>
                  <a:pt x="6988" y="5897"/>
                  <a:pt x="7454" y="5909"/>
                  <a:pt x="7913" y="5928"/>
                </a:cubicBezTo>
                <a:cubicBezTo>
                  <a:pt x="8177" y="5939"/>
                  <a:pt x="8447" y="5940"/>
                  <a:pt x="8706" y="5953"/>
                </a:cubicBezTo>
                <a:cubicBezTo>
                  <a:pt x="8962" y="5966"/>
                  <a:pt x="9222" y="5974"/>
                  <a:pt x="9475" y="5978"/>
                </a:cubicBezTo>
                <a:cubicBezTo>
                  <a:pt x="9643" y="5981"/>
                  <a:pt x="9809" y="5962"/>
                  <a:pt x="9971" y="5953"/>
                </a:cubicBezTo>
                <a:cubicBezTo>
                  <a:pt x="10037" y="5949"/>
                  <a:pt x="10104" y="5956"/>
                  <a:pt x="10170" y="5953"/>
                </a:cubicBezTo>
              </a:path>
              <a:path w="17637" h="1242">
                <a:moveTo>
                  <a:pt x="16173" y="5928"/>
                </a:moveTo>
                <a:cubicBezTo>
                  <a:pt x="16220" y="5952"/>
                  <a:pt x="16220" y="5944"/>
                  <a:pt x="16272" y="5953"/>
                </a:cubicBezTo>
                <a:cubicBezTo>
                  <a:pt x="16370" y="5969"/>
                  <a:pt x="16464" y="5978"/>
                  <a:pt x="16570" y="5978"/>
                </a:cubicBezTo>
                <a:cubicBezTo>
                  <a:pt x="16910" y="5978"/>
                  <a:pt x="17251" y="5987"/>
                  <a:pt x="17587" y="5953"/>
                </a:cubicBezTo>
                <a:cubicBezTo>
                  <a:pt x="17686" y="5943"/>
                  <a:pt x="17787" y="5939"/>
                  <a:pt x="17884" y="5928"/>
                </a:cubicBezTo>
                <a:cubicBezTo>
                  <a:pt x="18308" y="5881"/>
                  <a:pt x="18804" y="5908"/>
                  <a:pt x="19224" y="5953"/>
                </a:cubicBezTo>
                <a:cubicBezTo>
                  <a:pt x="19346" y="5966"/>
                  <a:pt x="19477" y="5968"/>
                  <a:pt x="19596" y="5978"/>
                </a:cubicBezTo>
                <a:cubicBezTo>
                  <a:pt x="19686" y="5985"/>
                  <a:pt x="19793" y="5994"/>
                  <a:pt x="19869" y="6003"/>
                </a:cubicBezTo>
                <a:cubicBezTo>
                  <a:pt x="19917" y="6008"/>
                  <a:pt x="19969" y="6003"/>
                  <a:pt x="20017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05160" y="4776840"/>
            <a:ext cx="839880" cy="447480"/>
          </a:xfrm>
          <a:custGeom>
            <a:avLst/>
            <a:gdLst/>
            <a:ahLst/>
            <a:rect l="l" t="t" r="r" b="b"/>
            <a:pathLst>
              <a:path w="2333" h="1241">
                <a:moveTo>
                  <a:pt x="13990" y="14436"/>
                </a:moveTo>
                <a:cubicBezTo>
                  <a:pt x="13936" y="14436"/>
                  <a:pt x="13913" y="14440"/>
                  <a:pt x="13891" y="14486"/>
                </a:cubicBezTo>
                <a:cubicBezTo>
                  <a:pt x="13979" y="14426"/>
                  <a:pt x="13890" y="14391"/>
                  <a:pt x="13866" y="14412"/>
                </a:cubicBezTo>
                <a:cubicBezTo>
                  <a:pt x="13858" y="14428"/>
                  <a:pt x="13849" y="14445"/>
                  <a:pt x="13841" y="14461"/>
                </a:cubicBezTo>
                <a:cubicBezTo>
                  <a:pt x="13861" y="14454"/>
                  <a:pt x="13933" y="14342"/>
                  <a:pt x="13866" y="14362"/>
                </a:cubicBezTo>
                <a:cubicBezTo>
                  <a:pt x="13810" y="14378"/>
                  <a:pt x="13848" y="14406"/>
                  <a:pt x="13866" y="14412"/>
                </a:cubicBezTo>
              </a:path>
              <a:path w="2333" h="1241">
                <a:moveTo>
                  <a:pt x="13444" y="13915"/>
                </a:moveTo>
                <a:cubicBezTo>
                  <a:pt x="13444" y="13840"/>
                  <a:pt x="13370" y="13795"/>
                  <a:pt x="13370" y="13891"/>
                </a:cubicBezTo>
                <a:cubicBezTo>
                  <a:pt x="13378" y="13907"/>
                  <a:pt x="13387" y="13924"/>
                  <a:pt x="13395" y="13940"/>
                </a:cubicBezTo>
                <a:cubicBezTo>
                  <a:pt x="13449" y="13894"/>
                  <a:pt x="13444" y="13914"/>
                  <a:pt x="13444" y="13841"/>
                </a:cubicBezTo>
                <a:cubicBezTo>
                  <a:pt x="13394" y="13858"/>
                  <a:pt x="13438" y="13886"/>
                  <a:pt x="13444" y="13841"/>
                </a:cubicBezTo>
                <a:cubicBezTo>
                  <a:pt x="13444" y="13816"/>
                  <a:pt x="13444" y="13808"/>
                  <a:pt x="13444" y="13841"/>
                </a:cubicBezTo>
              </a:path>
              <a:path w="2333" h="1241">
                <a:moveTo>
                  <a:pt x="12626" y="13494"/>
                </a:moveTo>
                <a:cubicBezTo>
                  <a:pt x="12626" y="13450"/>
                  <a:pt x="12627" y="13454"/>
                  <a:pt x="12601" y="13419"/>
                </a:cubicBezTo>
                <a:cubicBezTo>
                  <a:pt x="12563" y="13523"/>
                  <a:pt x="12637" y="13601"/>
                  <a:pt x="12675" y="13494"/>
                </a:cubicBezTo>
                <a:cubicBezTo>
                  <a:pt x="12708" y="13402"/>
                  <a:pt x="12629" y="13452"/>
                  <a:pt x="12601" y="13469"/>
                </a:cubicBezTo>
                <a:cubicBezTo>
                  <a:pt x="12561" y="13449"/>
                  <a:pt x="12592" y="13453"/>
                  <a:pt x="12626" y="13444"/>
                </a:cubicBezTo>
              </a:path>
              <a:path w="2333" h="1241">
                <a:moveTo>
                  <a:pt x="11757" y="13295"/>
                </a:moveTo>
                <a:cubicBezTo>
                  <a:pt x="11718" y="13266"/>
                  <a:pt x="11690" y="13260"/>
                  <a:pt x="11683" y="13320"/>
                </a:cubicBezTo>
                <a:cubicBezTo>
                  <a:pt x="11683" y="13328"/>
                  <a:pt x="11683" y="13337"/>
                  <a:pt x="11683" y="13345"/>
                </a:cubicBezTo>
                <a:cubicBezTo>
                  <a:pt x="11715" y="13302"/>
                  <a:pt x="11685" y="13266"/>
                  <a:pt x="11683" y="13271"/>
                </a:cubicBezTo>
                <a:cubicBezTo>
                  <a:pt x="11663" y="13329"/>
                  <a:pt x="11688" y="13397"/>
                  <a:pt x="11708" y="13444"/>
                </a:cubicBezTo>
                <a:cubicBezTo>
                  <a:pt x="11791" y="13408"/>
                  <a:pt x="11794" y="13278"/>
                  <a:pt x="11683" y="13320"/>
                </a:cubicBezTo>
                <a:cubicBezTo>
                  <a:pt x="11683" y="13328"/>
                  <a:pt x="11683" y="13337"/>
                  <a:pt x="11683" y="13345"/>
                </a:cubicBezTo>
              </a:path>
              <a:path w="2333" h="1241">
                <a:moveTo>
                  <a:pt x="14015" y="14511"/>
                </a:moveTo>
                <a:cubicBezTo>
                  <a:pt x="14007" y="14511"/>
                  <a:pt x="13998" y="14511"/>
                  <a:pt x="13990" y="14511"/>
                </a:cubicBezTo>
                <a:cubicBezTo>
                  <a:pt x="13964" y="14491"/>
                  <a:pt x="13991" y="14494"/>
                  <a:pt x="13940" y="14486"/>
                </a:cubicBezTo>
                <a:cubicBezTo>
                  <a:pt x="13923" y="14472"/>
                  <a:pt x="13897" y="14454"/>
                  <a:pt x="13866" y="14436"/>
                </a:cubicBezTo>
                <a:cubicBezTo>
                  <a:pt x="13851" y="14406"/>
                  <a:pt x="13838" y="14403"/>
                  <a:pt x="13816" y="14362"/>
                </a:cubicBezTo>
                <a:cubicBezTo>
                  <a:pt x="13786" y="14306"/>
                  <a:pt x="13753" y="14284"/>
                  <a:pt x="13717" y="14238"/>
                </a:cubicBezTo>
                <a:cubicBezTo>
                  <a:pt x="13706" y="14224"/>
                  <a:pt x="13702" y="14179"/>
                  <a:pt x="13692" y="14163"/>
                </a:cubicBezTo>
                <a:cubicBezTo>
                  <a:pt x="13660" y="14147"/>
                  <a:pt x="13674" y="14154"/>
                  <a:pt x="13643" y="14139"/>
                </a:cubicBezTo>
                <a:cubicBezTo>
                  <a:pt x="13628" y="14108"/>
                  <a:pt x="13608" y="14070"/>
                  <a:pt x="13593" y="14039"/>
                </a:cubicBezTo>
                <a:cubicBezTo>
                  <a:pt x="13556" y="14013"/>
                  <a:pt x="13545" y="14002"/>
                  <a:pt x="13519" y="13965"/>
                </a:cubicBezTo>
                <a:cubicBezTo>
                  <a:pt x="13499" y="13939"/>
                  <a:pt x="13502" y="13966"/>
                  <a:pt x="13494" y="13915"/>
                </a:cubicBezTo>
                <a:cubicBezTo>
                  <a:pt x="13467" y="13898"/>
                  <a:pt x="13458" y="13887"/>
                  <a:pt x="13419" y="13866"/>
                </a:cubicBezTo>
                <a:cubicBezTo>
                  <a:pt x="13397" y="13843"/>
                  <a:pt x="13392" y="13835"/>
                  <a:pt x="13370" y="13841"/>
                </a:cubicBezTo>
                <a:cubicBezTo>
                  <a:pt x="13380" y="13862"/>
                  <a:pt x="13405" y="13877"/>
                  <a:pt x="13345" y="13841"/>
                </a:cubicBezTo>
                <a:cubicBezTo>
                  <a:pt x="13294" y="13810"/>
                  <a:pt x="13250" y="13770"/>
                  <a:pt x="13196" y="13742"/>
                </a:cubicBezTo>
                <a:cubicBezTo>
                  <a:pt x="13165" y="13726"/>
                  <a:pt x="13130" y="13709"/>
                  <a:pt x="13097" y="13692"/>
                </a:cubicBezTo>
                <a:cubicBezTo>
                  <a:pt x="13046" y="13666"/>
                  <a:pt x="12997" y="13640"/>
                  <a:pt x="12948" y="13618"/>
                </a:cubicBezTo>
                <a:cubicBezTo>
                  <a:pt x="12906" y="13599"/>
                  <a:pt x="12874" y="13554"/>
                  <a:pt x="12824" y="13543"/>
                </a:cubicBezTo>
                <a:cubicBezTo>
                  <a:pt x="12807" y="13543"/>
                  <a:pt x="12791" y="13543"/>
                  <a:pt x="12774" y="13543"/>
                </a:cubicBezTo>
                <a:cubicBezTo>
                  <a:pt x="12765" y="13537"/>
                  <a:pt x="12734" y="13500"/>
                  <a:pt x="12725" y="13494"/>
                </a:cubicBezTo>
                <a:cubicBezTo>
                  <a:pt x="12678" y="13488"/>
                  <a:pt x="12665" y="13484"/>
                  <a:pt x="12626" y="13469"/>
                </a:cubicBezTo>
                <a:cubicBezTo>
                  <a:pt x="12590" y="13451"/>
                  <a:pt x="12515" y="13436"/>
                  <a:pt x="12452" y="13419"/>
                </a:cubicBezTo>
                <a:cubicBezTo>
                  <a:pt x="12372" y="13397"/>
                  <a:pt x="12362" y="13415"/>
                  <a:pt x="12278" y="13419"/>
                </a:cubicBezTo>
                <a:cubicBezTo>
                  <a:pt x="12229" y="13421"/>
                  <a:pt x="12199" y="13438"/>
                  <a:pt x="12154" y="13444"/>
                </a:cubicBezTo>
                <a:cubicBezTo>
                  <a:pt x="12104" y="13451"/>
                  <a:pt x="12072" y="13451"/>
                  <a:pt x="12030" y="13469"/>
                </a:cubicBezTo>
                <a:cubicBezTo>
                  <a:pt x="11995" y="13484"/>
                  <a:pt x="11973" y="13492"/>
                  <a:pt x="11931" y="13494"/>
                </a:cubicBezTo>
                <a:cubicBezTo>
                  <a:pt x="11899" y="13496"/>
                  <a:pt x="11828" y="13504"/>
                  <a:pt x="11807" y="13519"/>
                </a:cubicBezTo>
                <a:cubicBezTo>
                  <a:pt x="11807" y="13527"/>
                  <a:pt x="11807" y="13535"/>
                  <a:pt x="11807" y="13543"/>
                </a:cubicBezTo>
              </a:path>
              <a:path w="2333" h="1241">
                <a:moveTo>
                  <a:pt x="11782" y="13444"/>
                </a:moveTo>
                <a:cubicBezTo>
                  <a:pt x="11782" y="13416"/>
                  <a:pt x="11780" y="13405"/>
                  <a:pt x="11757" y="13395"/>
                </a:cubicBezTo>
                <a:cubicBezTo>
                  <a:pt x="11783" y="13374"/>
                  <a:pt x="11839" y="13352"/>
                  <a:pt x="11881" y="13320"/>
                </a:cubicBezTo>
                <a:cubicBezTo>
                  <a:pt x="11964" y="13256"/>
                  <a:pt x="11958" y="13272"/>
                  <a:pt x="12055" y="13320"/>
                </a:cubicBezTo>
                <a:cubicBezTo>
                  <a:pt x="12107" y="13346"/>
                  <a:pt x="12154" y="13373"/>
                  <a:pt x="12204" y="13395"/>
                </a:cubicBezTo>
                <a:cubicBezTo>
                  <a:pt x="12234" y="13408"/>
                  <a:pt x="12241" y="13403"/>
                  <a:pt x="12278" y="13419"/>
                </a:cubicBezTo>
                <a:cubicBezTo>
                  <a:pt x="12320" y="13437"/>
                  <a:pt x="12355" y="13433"/>
                  <a:pt x="12402" y="13444"/>
                </a:cubicBezTo>
                <a:cubicBezTo>
                  <a:pt x="12458" y="13457"/>
                  <a:pt x="12548" y="13450"/>
                  <a:pt x="12601" y="13469"/>
                </a:cubicBezTo>
                <a:cubicBezTo>
                  <a:pt x="12633" y="13480"/>
                  <a:pt x="12655" y="13503"/>
                  <a:pt x="12700" y="13519"/>
                </a:cubicBezTo>
                <a:cubicBezTo>
                  <a:pt x="12757" y="13539"/>
                  <a:pt x="12845" y="13578"/>
                  <a:pt x="12874" y="13593"/>
                </a:cubicBezTo>
                <a:cubicBezTo>
                  <a:pt x="12930" y="13621"/>
                  <a:pt x="13013" y="13646"/>
                  <a:pt x="13072" y="13692"/>
                </a:cubicBezTo>
                <a:cubicBezTo>
                  <a:pt x="13099" y="13713"/>
                  <a:pt x="13160" y="13799"/>
                  <a:pt x="13196" y="13816"/>
                </a:cubicBezTo>
                <a:cubicBezTo>
                  <a:pt x="13237" y="13835"/>
                  <a:pt x="13272" y="13839"/>
                  <a:pt x="13320" y="13866"/>
                </a:cubicBezTo>
                <a:cubicBezTo>
                  <a:pt x="13328" y="13870"/>
                  <a:pt x="13374" y="13919"/>
                  <a:pt x="13395" y="13940"/>
                </a:cubicBezTo>
                <a:cubicBezTo>
                  <a:pt x="13420" y="13965"/>
                  <a:pt x="13478" y="14015"/>
                  <a:pt x="13494" y="14064"/>
                </a:cubicBezTo>
                <a:cubicBezTo>
                  <a:pt x="13515" y="14128"/>
                  <a:pt x="13532" y="14130"/>
                  <a:pt x="13568" y="14188"/>
                </a:cubicBezTo>
                <a:cubicBezTo>
                  <a:pt x="13587" y="14219"/>
                  <a:pt x="13602" y="14245"/>
                  <a:pt x="13618" y="14263"/>
                </a:cubicBezTo>
                <a:cubicBezTo>
                  <a:pt x="13637" y="14284"/>
                  <a:pt x="13687" y="14313"/>
                  <a:pt x="13717" y="14337"/>
                </a:cubicBezTo>
                <a:cubicBezTo>
                  <a:pt x="13718" y="14338"/>
                  <a:pt x="13786" y="14404"/>
                  <a:pt x="13791" y="14412"/>
                </a:cubicBezTo>
                <a:cubicBezTo>
                  <a:pt x="13810" y="14443"/>
                  <a:pt x="13844" y="14488"/>
                  <a:pt x="13816" y="14511"/>
                </a:cubicBezTo>
                <a:cubicBezTo>
                  <a:pt x="13800" y="14503"/>
                  <a:pt x="13783" y="14494"/>
                  <a:pt x="13767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9960" y="5634000"/>
            <a:ext cx="71280" cy="63360"/>
          </a:xfrm>
          <a:custGeom>
            <a:avLst/>
            <a:gdLst/>
            <a:ahLst/>
            <a:rect l="l" t="t" r="r" b="b"/>
            <a:pathLst>
              <a:path w="199" h="174">
                <a:moveTo>
                  <a:pt x="11807" y="15751"/>
                </a:moveTo>
                <a:cubicBezTo>
                  <a:pt x="11755" y="15751"/>
                  <a:pt x="11755" y="15746"/>
                  <a:pt x="11733" y="15776"/>
                </a:cubicBezTo>
                <a:cubicBezTo>
                  <a:pt x="11696" y="15825"/>
                  <a:pt x="11707" y="15838"/>
                  <a:pt x="11757" y="15801"/>
                </a:cubicBezTo>
                <a:cubicBezTo>
                  <a:pt x="11770" y="15762"/>
                  <a:pt x="11790" y="15753"/>
                  <a:pt x="11708" y="15726"/>
                </a:cubicBezTo>
                <a:cubicBezTo>
                  <a:pt x="11660" y="15710"/>
                  <a:pt x="11647" y="15744"/>
                  <a:pt x="11633" y="15751"/>
                </a:cubicBezTo>
                <a:cubicBezTo>
                  <a:pt x="11570" y="15784"/>
                  <a:pt x="11654" y="15784"/>
                  <a:pt x="11683" y="15751"/>
                </a:cubicBezTo>
                <a:cubicBezTo>
                  <a:pt x="11683" y="15726"/>
                  <a:pt x="11683" y="15718"/>
                  <a:pt x="11683" y="15701"/>
                </a:cubicBezTo>
                <a:cubicBezTo>
                  <a:pt x="11714" y="15641"/>
                  <a:pt x="11647" y="15632"/>
                  <a:pt x="11633" y="15677"/>
                </a:cubicBezTo>
                <a:cubicBezTo>
                  <a:pt x="11620" y="15719"/>
                  <a:pt x="11595" y="15806"/>
                  <a:pt x="11683" y="15801"/>
                </a:cubicBezTo>
                <a:cubicBezTo>
                  <a:pt x="11724" y="15781"/>
                  <a:pt x="11740" y="15783"/>
                  <a:pt x="11733" y="15751"/>
                </a:cubicBezTo>
                <a:cubicBezTo>
                  <a:pt x="11733" y="15705"/>
                  <a:pt x="11714" y="15662"/>
                  <a:pt x="11658" y="15726"/>
                </a:cubicBezTo>
                <a:cubicBezTo>
                  <a:pt x="11658" y="15734"/>
                  <a:pt x="11658" y="15743"/>
                  <a:pt x="11658" y="15751"/>
                </a:cubicBezTo>
                <a:cubicBezTo>
                  <a:pt x="11658" y="15821"/>
                  <a:pt x="11691" y="15825"/>
                  <a:pt x="11757" y="15751"/>
                </a:cubicBezTo>
                <a:cubicBezTo>
                  <a:pt x="11791" y="15713"/>
                  <a:pt x="11747" y="15656"/>
                  <a:pt x="11708" y="15652"/>
                </a:cubicBezTo>
                <a:cubicBezTo>
                  <a:pt x="11649" y="15645"/>
                  <a:pt x="11599" y="15794"/>
                  <a:pt x="11658" y="15801"/>
                </a:cubicBezTo>
                <a:cubicBezTo>
                  <a:pt x="11732" y="15809"/>
                  <a:pt x="11738" y="15730"/>
                  <a:pt x="11733" y="15701"/>
                </a:cubicBezTo>
                <a:cubicBezTo>
                  <a:pt x="11715" y="15650"/>
                  <a:pt x="11686" y="15673"/>
                  <a:pt x="11683" y="15726"/>
                </a:cubicBezTo>
                <a:cubicBezTo>
                  <a:pt x="11678" y="15802"/>
                  <a:pt x="11672" y="15763"/>
                  <a:pt x="11708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which is shown, the radius or the diamete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362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362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48006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48769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362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1722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057040" y="49525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248520" y="5105160"/>
            <a:ext cx="83808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ameter, given the radi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r = 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r = 1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r = 3.8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r = 2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80880"/>
            <a:ext cx="37339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radius, given the di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d = 2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d = 9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) d = 36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) d = 15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8960" y="3554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" y="9872"/>
                </a:moveTo>
                <a:lnTo>
                  <a:pt x="1637" y="987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8280" y="250920"/>
            <a:ext cx="696960" cy="276120"/>
          </a:xfrm>
          <a:custGeom>
            <a:avLst/>
            <a:gdLst/>
            <a:ahLst/>
            <a:rect l="l" t="t" r="r" b="b"/>
            <a:pathLst>
              <a:path w="1936" h="769">
                <a:moveTo>
                  <a:pt x="3621" y="893"/>
                </a:moveTo>
                <a:cubicBezTo>
                  <a:pt x="3635" y="838"/>
                  <a:pt x="3718" y="772"/>
                  <a:pt x="3770" y="744"/>
                </a:cubicBezTo>
                <a:cubicBezTo>
                  <a:pt x="3827" y="713"/>
                  <a:pt x="3950" y="673"/>
                  <a:pt x="4018" y="695"/>
                </a:cubicBezTo>
                <a:cubicBezTo>
                  <a:pt x="4118" y="727"/>
                  <a:pt x="4050" y="879"/>
                  <a:pt x="3994" y="918"/>
                </a:cubicBezTo>
                <a:cubicBezTo>
                  <a:pt x="3862" y="1008"/>
                  <a:pt x="3774" y="1130"/>
                  <a:pt x="3671" y="1265"/>
                </a:cubicBezTo>
                <a:cubicBezTo>
                  <a:pt x="3606" y="1350"/>
                  <a:pt x="3584" y="1377"/>
                  <a:pt x="3547" y="1463"/>
                </a:cubicBezTo>
                <a:cubicBezTo>
                  <a:pt x="3504" y="1442"/>
                  <a:pt x="3619" y="1339"/>
                  <a:pt x="3671" y="1315"/>
                </a:cubicBezTo>
                <a:cubicBezTo>
                  <a:pt x="3800" y="1256"/>
                  <a:pt x="3834" y="1303"/>
                  <a:pt x="3919" y="1389"/>
                </a:cubicBezTo>
                <a:cubicBezTo>
                  <a:pt x="4017" y="1488"/>
                  <a:pt x="4060" y="1408"/>
                  <a:pt x="4167" y="1364"/>
                </a:cubicBezTo>
                <a:cubicBezTo>
                  <a:pt x="4175" y="1364"/>
                  <a:pt x="4184" y="1364"/>
                  <a:pt x="4192" y="1364"/>
                </a:cubicBezTo>
              </a:path>
              <a:path w="1936" h="769">
                <a:moveTo>
                  <a:pt x="4390" y="943"/>
                </a:moveTo>
                <a:cubicBezTo>
                  <a:pt x="4485" y="980"/>
                  <a:pt x="4596" y="1108"/>
                  <a:pt x="4663" y="1191"/>
                </a:cubicBezTo>
                <a:cubicBezTo>
                  <a:pt x="4714" y="1254"/>
                  <a:pt x="4671" y="1303"/>
                  <a:pt x="4713" y="1166"/>
                </a:cubicBezTo>
              </a:path>
              <a:path w="1936" h="769">
                <a:moveTo>
                  <a:pt x="4762" y="794"/>
                </a:moveTo>
                <a:cubicBezTo>
                  <a:pt x="4655" y="921"/>
                  <a:pt x="4535" y="1063"/>
                  <a:pt x="4465" y="1215"/>
                </a:cubicBezTo>
                <a:cubicBezTo>
                  <a:pt x="4465" y="1223"/>
                  <a:pt x="4465" y="1232"/>
                  <a:pt x="4465" y="1240"/>
                </a:cubicBezTo>
              </a:path>
              <a:path w="1936" h="769">
                <a:moveTo>
                  <a:pt x="5060" y="918"/>
                </a:moveTo>
                <a:cubicBezTo>
                  <a:pt x="5067" y="1038"/>
                  <a:pt x="5091" y="1149"/>
                  <a:pt x="5110" y="1265"/>
                </a:cubicBezTo>
                <a:cubicBezTo>
                  <a:pt x="5088" y="1199"/>
                  <a:pt x="5080" y="1117"/>
                  <a:pt x="5110" y="1017"/>
                </a:cubicBezTo>
                <a:cubicBezTo>
                  <a:pt x="5146" y="897"/>
                  <a:pt x="5330" y="869"/>
                  <a:pt x="5432" y="843"/>
                </a:cubicBezTo>
                <a:cubicBezTo>
                  <a:pt x="5440" y="843"/>
                  <a:pt x="5449" y="843"/>
                  <a:pt x="5457" y="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5800" y="204840"/>
            <a:ext cx="473040" cy="304920"/>
          </a:xfrm>
          <a:custGeom>
            <a:avLst/>
            <a:gdLst/>
            <a:ahLst/>
            <a:rect l="l" t="t" r="r" b="b"/>
            <a:pathLst>
              <a:path w="1315" h="844">
                <a:moveTo>
                  <a:pt x="5953" y="1017"/>
                </a:moveTo>
                <a:cubicBezTo>
                  <a:pt x="6030" y="1017"/>
                  <a:pt x="6101" y="1034"/>
                  <a:pt x="6176" y="1042"/>
                </a:cubicBezTo>
              </a:path>
              <a:path w="1315" h="844">
                <a:moveTo>
                  <a:pt x="5904" y="1191"/>
                </a:moveTo>
                <a:cubicBezTo>
                  <a:pt x="6014" y="1214"/>
                  <a:pt x="6112" y="1215"/>
                  <a:pt x="6226" y="1215"/>
                </a:cubicBezTo>
              </a:path>
              <a:path w="1315" h="844">
                <a:moveTo>
                  <a:pt x="7045" y="1166"/>
                </a:moveTo>
                <a:cubicBezTo>
                  <a:pt x="7045" y="1083"/>
                  <a:pt x="7016" y="972"/>
                  <a:pt x="6921" y="943"/>
                </a:cubicBezTo>
                <a:cubicBezTo>
                  <a:pt x="6782" y="900"/>
                  <a:pt x="6598" y="1141"/>
                  <a:pt x="6598" y="1265"/>
                </a:cubicBezTo>
                <a:cubicBezTo>
                  <a:pt x="6598" y="1451"/>
                  <a:pt x="6900" y="1435"/>
                  <a:pt x="6995" y="1364"/>
                </a:cubicBezTo>
                <a:cubicBezTo>
                  <a:pt x="7082" y="1247"/>
                  <a:pt x="7116" y="1194"/>
                  <a:pt x="7144" y="1091"/>
                </a:cubicBezTo>
              </a:path>
              <a:path w="1315" h="844">
                <a:moveTo>
                  <a:pt x="7119" y="571"/>
                </a:moveTo>
                <a:cubicBezTo>
                  <a:pt x="7133" y="626"/>
                  <a:pt x="7167" y="676"/>
                  <a:pt x="7169" y="744"/>
                </a:cubicBezTo>
                <a:cubicBezTo>
                  <a:pt x="7174" y="937"/>
                  <a:pt x="7211" y="1124"/>
                  <a:pt x="7218" y="1315"/>
                </a:cubicBezTo>
                <a:cubicBezTo>
                  <a:pt x="7218" y="1356"/>
                  <a:pt x="7218" y="1364"/>
                  <a:pt x="7218" y="13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43160" y="169920"/>
            <a:ext cx="1162080" cy="250920"/>
          </a:xfrm>
          <a:custGeom>
            <a:avLst/>
            <a:gdLst/>
            <a:ahLst/>
            <a:rect l="l" t="t" r="r" b="b"/>
            <a:pathLst>
              <a:path w="3226" h="696">
                <a:moveTo>
                  <a:pt x="8880" y="893"/>
                </a:moveTo>
                <a:cubicBezTo>
                  <a:pt x="8847" y="795"/>
                  <a:pt x="8743" y="985"/>
                  <a:pt x="8731" y="1017"/>
                </a:cubicBezTo>
                <a:cubicBezTo>
                  <a:pt x="8731" y="1034"/>
                  <a:pt x="8731" y="1050"/>
                  <a:pt x="8731" y="1067"/>
                </a:cubicBezTo>
                <a:cubicBezTo>
                  <a:pt x="8861" y="1086"/>
                  <a:pt x="9043" y="1057"/>
                  <a:pt x="8954" y="868"/>
                </a:cubicBezTo>
                <a:cubicBezTo>
                  <a:pt x="8938" y="860"/>
                  <a:pt x="8921" y="851"/>
                  <a:pt x="8905" y="843"/>
                </a:cubicBezTo>
              </a:path>
              <a:path w="3226" h="696">
                <a:moveTo>
                  <a:pt x="9153" y="1091"/>
                </a:moveTo>
                <a:cubicBezTo>
                  <a:pt x="9180" y="1028"/>
                  <a:pt x="9161" y="899"/>
                  <a:pt x="9227" y="868"/>
                </a:cubicBezTo>
                <a:cubicBezTo>
                  <a:pt x="9308" y="841"/>
                  <a:pt x="9340" y="833"/>
                  <a:pt x="9401" y="843"/>
                </a:cubicBezTo>
              </a:path>
              <a:path w="3226" h="696">
                <a:moveTo>
                  <a:pt x="9947" y="546"/>
                </a:moveTo>
                <a:cubicBezTo>
                  <a:pt x="10068" y="480"/>
                  <a:pt x="10135" y="455"/>
                  <a:pt x="10269" y="496"/>
                </a:cubicBezTo>
                <a:cubicBezTo>
                  <a:pt x="10231" y="687"/>
                  <a:pt x="10070" y="843"/>
                  <a:pt x="9922" y="967"/>
                </a:cubicBezTo>
                <a:cubicBezTo>
                  <a:pt x="9857" y="1022"/>
                  <a:pt x="9726" y="1072"/>
                  <a:pt x="9748" y="1116"/>
                </a:cubicBezTo>
                <a:cubicBezTo>
                  <a:pt x="9877" y="1068"/>
                  <a:pt x="9984" y="1039"/>
                  <a:pt x="10120" y="1091"/>
                </a:cubicBezTo>
                <a:cubicBezTo>
                  <a:pt x="10196" y="1120"/>
                  <a:pt x="10168" y="1124"/>
                  <a:pt x="10244" y="1091"/>
                </a:cubicBezTo>
              </a:path>
              <a:path w="3226" h="696">
                <a:moveTo>
                  <a:pt x="10542" y="943"/>
                </a:moveTo>
                <a:cubicBezTo>
                  <a:pt x="10530" y="1000"/>
                  <a:pt x="10517" y="1125"/>
                  <a:pt x="10517" y="1067"/>
                </a:cubicBezTo>
                <a:cubicBezTo>
                  <a:pt x="10524" y="956"/>
                  <a:pt x="10508" y="880"/>
                  <a:pt x="10592" y="819"/>
                </a:cubicBezTo>
                <a:cubicBezTo>
                  <a:pt x="10691" y="746"/>
                  <a:pt x="10768" y="725"/>
                  <a:pt x="10864" y="744"/>
                </a:cubicBezTo>
                <a:cubicBezTo>
                  <a:pt x="10872" y="744"/>
                  <a:pt x="10881" y="744"/>
                  <a:pt x="10889" y="744"/>
                </a:cubicBezTo>
              </a:path>
              <a:path w="3226" h="696">
                <a:moveTo>
                  <a:pt x="11112" y="843"/>
                </a:moveTo>
                <a:cubicBezTo>
                  <a:pt x="11187" y="843"/>
                  <a:pt x="11248" y="841"/>
                  <a:pt x="11311" y="868"/>
                </a:cubicBezTo>
              </a:path>
              <a:path w="3226" h="696">
                <a:moveTo>
                  <a:pt x="11038" y="967"/>
                </a:moveTo>
                <a:cubicBezTo>
                  <a:pt x="11166" y="988"/>
                  <a:pt x="11253" y="987"/>
                  <a:pt x="11385" y="967"/>
                </a:cubicBezTo>
              </a:path>
              <a:path w="3226" h="696">
                <a:moveTo>
                  <a:pt x="11857" y="893"/>
                </a:moveTo>
                <a:cubicBezTo>
                  <a:pt x="11843" y="825"/>
                  <a:pt x="11813" y="775"/>
                  <a:pt x="11733" y="769"/>
                </a:cubicBezTo>
                <a:cubicBezTo>
                  <a:pt x="11587" y="758"/>
                  <a:pt x="11460" y="884"/>
                  <a:pt x="11485" y="1042"/>
                </a:cubicBezTo>
                <a:cubicBezTo>
                  <a:pt x="11517" y="1246"/>
                  <a:pt x="11792" y="1143"/>
                  <a:pt x="11881" y="1067"/>
                </a:cubicBezTo>
                <a:cubicBezTo>
                  <a:pt x="11906" y="1034"/>
                  <a:pt x="11931" y="1000"/>
                  <a:pt x="11956" y="967"/>
                </a:cubicBezTo>
              </a:path>
              <a:path w="3226" h="696">
                <a:moveTo>
                  <a:pt x="11881" y="496"/>
                </a:moveTo>
                <a:cubicBezTo>
                  <a:pt x="11907" y="693"/>
                  <a:pt x="11923" y="892"/>
                  <a:pt x="11931" y="1091"/>
                </a:cubicBezTo>
                <a:cubicBezTo>
                  <a:pt x="11933" y="1133"/>
                  <a:pt x="11943" y="1103"/>
                  <a:pt x="11956" y="11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54080" y="1990800"/>
            <a:ext cx="1320840" cy="527040"/>
          </a:xfrm>
          <a:custGeom>
            <a:avLst/>
            <a:gdLst/>
            <a:ahLst/>
            <a:rect l="l" t="t" r="r" b="b"/>
            <a:pathLst>
              <a:path w="3672" h="1465">
                <a:moveTo>
                  <a:pt x="4465" y="5581"/>
                </a:moveTo>
                <a:cubicBezTo>
                  <a:pt x="4465" y="5512"/>
                  <a:pt x="4494" y="5664"/>
                  <a:pt x="4514" y="5730"/>
                </a:cubicBezTo>
                <a:cubicBezTo>
                  <a:pt x="4534" y="5807"/>
                  <a:pt x="4526" y="5825"/>
                  <a:pt x="4564" y="5854"/>
                </a:cubicBezTo>
              </a:path>
              <a:path w="3672" h="1465">
                <a:moveTo>
                  <a:pt x="4663" y="5531"/>
                </a:moveTo>
                <a:cubicBezTo>
                  <a:pt x="4598" y="5649"/>
                  <a:pt x="4381" y="5774"/>
                  <a:pt x="4465" y="5879"/>
                </a:cubicBezTo>
                <a:cubicBezTo>
                  <a:pt x="4481" y="5879"/>
                  <a:pt x="4498" y="5879"/>
                  <a:pt x="4514" y="5879"/>
                </a:cubicBezTo>
              </a:path>
              <a:path w="3672" h="1465">
                <a:moveTo>
                  <a:pt x="5011" y="5581"/>
                </a:moveTo>
                <a:cubicBezTo>
                  <a:pt x="5025" y="5539"/>
                  <a:pt x="5080" y="5540"/>
                  <a:pt x="5135" y="5531"/>
                </a:cubicBezTo>
                <a:cubicBezTo>
                  <a:pt x="5106" y="5675"/>
                  <a:pt x="5008" y="5677"/>
                  <a:pt x="4961" y="5779"/>
                </a:cubicBezTo>
                <a:cubicBezTo>
                  <a:pt x="4961" y="5796"/>
                  <a:pt x="4961" y="5812"/>
                  <a:pt x="4961" y="5829"/>
                </a:cubicBezTo>
                <a:cubicBezTo>
                  <a:pt x="5046" y="5812"/>
                  <a:pt x="5121" y="5769"/>
                  <a:pt x="5209" y="5755"/>
                </a:cubicBezTo>
              </a:path>
              <a:path w="3672" h="1465">
                <a:moveTo>
                  <a:pt x="4192" y="6201"/>
                </a:moveTo>
                <a:cubicBezTo>
                  <a:pt x="4325" y="6162"/>
                  <a:pt x="4449" y="6123"/>
                  <a:pt x="4589" y="6102"/>
                </a:cubicBezTo>
                <a:cubicBezTo>
                  <a:pt x="4911" y="6053"/>
                  <a:pt x="5236" y="6063"/>
                  <a:pt x="5556" y="6028"/>
                </a:cubicBezTo>
                <a:cubicBezTo>
                  <a:pt x="5858" y="5995"/>
                  <a:pt x="6144" y="5953"/>
                  <a:pt x="6449" y="5953"/>
                </a:cubicBezTo>
                <a:cubicBezTo>
                  <a:pt x="6474" y="5953"/>
                  <a:pt x="6499" y="5953"/>
                  <a:pt x="6524" y="5953"/>
                </a:cubicBezTo>
              </a:path>
              <a:path w="3672" h="1465">
                <a:moveTo>
                  <a:pt x="3249" y="6747"/>
                </a:moveTo>
                <a:cubicBezTo>
                  <a:pt x="3249" y="6677"/>
                  <a:pt x="3222" y="6622"/>
                  <a:pt x="3150" y="6598"/>
                </a:cubicBezTo>
                <a:cubicBezTo>
                  <a:pt x="3134" y="6598"/>
                  <a:pt x="3117" y="6598"/>
                  <a:pt x="3101" y="6598"/>
                </a:cubicBezTo>
                <a:cubicBezTo>
                  <a:pt x="2991" y="6725"/>
                  <a:pt x="2921" y="6802"/>
                  <a:pt x="2952" y="6970"/>
                </a:cubicBezTo>
                <a:cubicBezTo>
                  <a:pt x="3167" y="6970"/>
                  <a:pt x="3292" y="6858"/>
                  <a:pt x="3274" y="6598"/>
                </a:cubicBezTo>
                <a:cubicBezTo>
                  <a:pt x="3236" y="6483"/>
                  <a:pt x="3220" y="6469"/>
                  <a:pt x="3225" y="6400"/>
                </a:cubicBezTo>
                <a:cubicBezTo>
                  <a:pt x="3187" y="6380"/>
                  <a:pt x="3260" y="6598"/>
                  <a:pt x="3274" y="6672"/>
                </a:cubicBezTo>
                <a:cubicBezTo>
                  <a:pt x="3296" y="6789"/>
                  <a:pt x="3263" y="6825"/>
                  <a:pt x="3349" y="6846"/>
                </a:cubicBezTo>
              </a:path>
              <a:path w="3672" h="1465">
                <a:moveTo>
                  <a:pt x="3646" y="6548"/>
                </a:moveTo>
                <a:cubicBezTo>
                  <a:pt x="3748" y="6525"/>
                  <a:pt x="3822" y="6512"/>
                  <a:pt x="3919" y="6548"/>
                </a:cubicBezTo>
              </a:path>
              <a:path w="3672" h="1465">
                <a:moveTo>
                  <a:pt x="3646" y="6747"/>
                </a:moveTo>
                <a:cubicBezTo>
                  <a:pt x="3727" y="6703"/>
                  <a:pt x="3804" y="6666"/>
                  <a:pt x="3894" y="6648"/>
                </a:cubicBezTo>
              </a:path>
              <a:path w="3672" h="1465">
                <a:moveTo>
                  <a:pt x="4490" y="6375"/>
                </a:moveTo>
                <a:cubicBezTo>
                  <a:pt x="4490" y="6347"/>
                  <a:pt x="4488" y="6336"/>
                  <a:pt x="4465" y="6325"/>
                </a:cubicBezTo>
                <a:cubicBezTo>
                  <a:pt x="4465" y="6398"/>
                  <a:pt x="4465" y="6672"/>
                  <a:pt x="4465" y="6648"/>
                </a:cubicBezTo>
              </a:path>
              <a:path w="3672" h="1465">
                <a:moveTo>
                  <a:pt x="4738" y="6251"/>
                </a:moveTo>
                <a:cubicBezTo>
                  <a:pt x="4870" y="6201"/>
                  <a:pt x="4871" y="6182"/>
                  <a:pt x="4986" y="6251"/>
                </a:cubicBezTo>
                <a:cubicBezTo>
                  <a:pt x="4963" y="6412"/>
                  <a:pt x="4890" y="6467"/>
                  <a:pt x="4812" y="6598"/>
                </a:cubicBezTo>
                <a:cubicBezTo>
                  <a:pt x="4812" y="6606"/>
                  <a:pt x="4812" y="6615"/>
                  <a:pt x="4812" y="6623"/>
                </a:cubicBezTo>
                <a:cubicBezTo>
                  <a:pt x="4919" y="6591"/>
                  <a:pt x="5025" y="6542"/>
                  <a:pt x="5135" y="6524"/>
                </a:cubicBezTo>
              </a:path>
              <a:path w="3672" h="1465">
                <a:moveTo>
                  <a:pt x="5705" y="6251"/>
                </a:moveTo>
                <a:cubicBezTo>
                  <a:pt x="5623" y="6234"/>
                  <a:pt x="5562" y="6182"/>
                  <a:pt x="5507" y="6300"/>
                </a:cubicBezTo>
                <a:cubicBezTo>
                  <a:pt x="5436" y="6450"/>
                  <a:pt x="5518" y="6629"/>
                  <a:pt x="5705" y="6573"/>
                </a:cubicBezTo>
                <a:cubicBezTo>
                  <a:pt x="5833" y="6497"/>
                  <a:pt x="5877" y="6468"/>
                  <a:pt x="5928" y="6375"/>
                </a:cubicBezTo>
              </a:path>
              <a:path w="3672" h="1465">
                <a:moveTo>
                  <a:pt x="5978" y="6226"/>
                </a:moveTo>
                <a:cubicBezTo>
                  <a:pt x="5978" y="6309"/>
                  <a:pt x="5978" y="6391"/>
                  <a:pt x="5978" y="6474"/>
                </a:cubicBezTo>
                <a:cubicBezTo>
                  <a:pt x="5978" y="6363"/>
                  <a:pt x="5962" y="6274"/>
                  <a:pt x="6028" y="6176"/>
                </a:cubicBezTo>
                <a:cubicBezTo>
                  <a:pt x="6160" y="5981"/>
                  <a:pt x="6246" y="6202"/>
                  <a:pt x="6300" y="6300"/>
                </a:cubicBezTo>
                <a:cubicBezTo>
                  <a:pt x="6323" y="6323"/>
                  <a:pt x="6331" y="6327"/>
                  <a:pt x="6325" y="6350"/>
                </a:cubicBezTo>
                <a:cubicBezTo>
                  <a:pt x="6325" y="6270"/>
                  <a:pt x="6313" y="6219"/>
                  <a:pt x="6375" y="6152"/>
                </a:cubicBezTo>
                <a:cubicBezTo>
                  <a:pt x="6416" y="6108"/>
                  <a:pt x="6518" y="6132"/>
                  <a:pt x="6548" y="6176"/>
                </a:cubicBezTo>
                <a:cubicBezTo>
                  <a:pt x="6604" y="6258"/>
                  <a:pt x="6598" y="6380"/>
                  <a:pt x="6598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87680" y="3160800"/>
            <a:ext cx="965160" cy="331560"/>
          </a:xfrm>
          <a:custGeom>
            <a:avLst/>
            <a:gdLst/>
            <a:ahLst/>
            <a:rect l="l" t="t" r="r" b="b"/>
            <a:pathLst>
              <a:path w="2680" h="919">
                <a:moveTo>
                  <a:pt x="4762" y="8979"/>
                </a:moveTo>
                <a:cubicBezTo>
                  <a:pt x="4762" y="8957"/>
                  <a:pt x="4801" y="9051"/>
                  <a:pt x="4862" y="9103"/>
                </a:cubicBezTo>
                <a:cubicBezTo>
                  <a:pt x="4902" y="9123"/>
                  <a:pt x="4918" y="9122"/>
                  <a:pt x="4911" y="9153"/>
                </a:cubicBezTo>
              </a:path>
              <a:path w="2680" h="919">
                <a:moveTo>
                  <a:pt x="5011" y="8781"/>
                </a:moveTo>
                <a:cubicBezTo>
                  <a:pt x="4916" y="8899"/>
                  <a:pt x="4857" y="9035"/>
                  <a:pt x="4762" y="9153"/>
                </a:cubicBezTo>
              </a:path>
              <a:path w="2680" h="919">
                <a:moveTo>
                  <a:pt x="5333" y="8855"/>
                </a:moveTo>
                <a:cubicBezTo>
                  <a:pt x="5405" y="8837"/>
                  <a:pt x="5497" y="8778"/>
                  <a:pt x="5581" y="8781"/>
                </a:cubicBezTo>
                <a:cubicBezTo>
                  <a:pt x="5598" y="8789"/>
                  <a:pt x="5614" y="8798"/>
                  <a:pt x="5631" y="8806"/>
                </a:cubicBezTo>
                <a:cubicBezTo>
                  <a:pt x="5631" y="8899"/>
                  <a:pt x="5627" y="8960"/>
                  <a:pt x="5531" y="9004"/>
                </a:cubicBezTo>
                <a:cubicBezTo>
                  <a:pt x="5507" y="9004"/>
                  <a:pt x="5499" y="9004"/>
                  <a:pt x="5531" y="9004"/>
                </a:cubicBezTo>
                <a:cubicBezTo>
                  <a:pt x="5656" y="8993"/>
                  <a:pt x="5778" y="8963"/>
                  <a:pt x="5904" y="8954"/>
                </a:cubicBezTo>
              </a:path>
              <a:path w="2680" h="919">
                <a:moveTo>
                  <a:pt x="4688" y="9302"/>
                </a:moveTo>
                <a:cubicBezTo>
                  <a:pt x="5123" y="9186"/>
                  <a:pt x="5553" y="9154"/>
                  <a:pt x="6003" y="9128"/>
                </a:cubicBezTo>
                <a:cubicBezTo>
                  <a:pt x="6450" y="9102"/>
                  <a:pt x="6895" y="9079"/>
                  <a:pt x="7342" y="9079"/>
                </a:cubicBezTo>
                <a:cubicBezTo>
                  <a:pt x="7350" y="9079"/>
                  <a:pt x="7359" y="9079"/>
                  <a:pt x="7367" y="9079"/>
                </a:cubicBezTo>
              </a:path>
              <a:path w="2680" h="919">
                <a:moveTo>
                  <a:pt x="5011" y="9302"/>
                </a:moveTo>
                <a:cubicBezTo>
                  <a:pt x="5088" y="9286"/>
                  <a:pt x="5199" y="9231"/>
                  <a:pt x="5259" y="9327"/>
                </a:cubicBezTo>
                <a:cubicBezTo>
                  <a:pt x="5311" y="9411"/>
                  <a:pt x="5157" y="9448"/>
                  <a:pt x="5110" y="9475"/>
                </a:cubicBezTo>
                <a:cubicBezTo>
                  <a:pt x="5102" y="9483"/>
                  <a:pt x="5093" y="9492"/>
                  <a:pt x="5085" y="9500"/>
                </a:cubicBezTo>
                <a:cubicBezTo>
                  <a:pt x="5114" y="9478"/>
                  <a:pt x="5253" y="9405"/>
                  <a:pt x="5259" y="9475"/>
                </a:cubicBezTo>
                <a:cubicBezTo>
                  <a:pt x="5275" y="9659"/>
                  <a:pt x="5062" y="9687"/>
                  <a:pt x="4936" y="9699"/>
                </a:cubicBezTo>
                <a:cubicBezTo>
                  <a:pt x="4835" y="9708"/>
                  <a:pt x="5026" y="9582"/>
                  <a:pt x="5110" y="9525"/>
                </a:cubicBezTo>
              </a:path>
              <a:path w="2680" h="919">
                <a:moveTo>
                  <a:pt x="5631" y="9227"/>
                </a:moveTo>
                <a:cubicBezTo>
                  <a:pt x="5495" y="9272"/>
                  <a:pt x="5477" y="9374"/>
                  <a:pt x="5432" y="9500"/>
                </a:cubicBezTo>
                <a:cubicBezTo>
                  <a:pt x="5541" y="9596"/>
                  <a:pt x="5750" y="9591"/>
                  <a:pt x="5804" y="9401"/>
                </a:cubicBezTo>
                <a:cubicBezTo>
                  <a:pt x="5840" y="9273"/>
                  <a:pt x="5643" y="9227"/>
                  <a:pt x="5606" y="9252"/>
                </a:cubicBezTo>
              </a:path>
              <a:path w="2680" h="919">
                <a:moveTo>
                  <a:pt x="6400" y="9451"/>
                </a:moveTo>
                <a:cubicBezTo>
                  <a:pt x="6400" y="9365"/>
                  <a:pt x="6333" y="9342"/>
                  <a:pt x="6251" y="9351"/>
                </a:cubicBezTo>
                <a:cubicBezTo>
                  <a:pt x="6106" y="9367"/>
                  <a:pt x="6008" y="9582"/>
                  <a:pt x="6152" y="9674"/>
                </a:cubicBezTo>
                <a:cubicBezTo>
                  <a:pt x="6314" y="9777"/>
                  <a:pt x="6462" y="9604"/>
                  <a:pt x="6573" y="9525"/>
                </a:cubicBezTo>
              </a:path>
              <a:path w="2680" h="919">
                <a:moveTo>
                  <a:pt x="6648" y="9351"/>
                </a:moveTo>
                <a:cubicBezTo>
                  <a:pt x="6661" y="9434"/>
                  <a:pt x="6688" y="9514"/>
                  <a:pt x="6697" y="9599"/>
                </a:cubicBezTo>
                <a:cubicBezTo>
                  <a:pt x="6678" y="9507"/>
                  <a:pt x="6641" y="9453"/>
                  <a:pt x="6722" y="9376"/>
                </a:cubicBezTo>
                <a:cubicBezTo>
                  <a:pt x="6835" y="9268"/>
                  <a:pt x="6907" y="9381"/>
                  <a:pt x="6995" y="9451"/>
                </a:cubicBezTo>
                <a:cubicBezTo>
                  <a:pt x="6995" y="9340"/>
                  <a:pt x="7022" y="9309"/>
                  <a:pt x="7094" y="9227"/>
                </a:cubicBezTo>
                <a:cubicBezTo>
                  <a:pt x="7238" y="9275"/>
                  <a:pt x="7279" y="9360"/>
                  <a:pt x="7293" y="9525"/>
                </a:cubicBezTo>
                <a:cubicBezTo>
                  <a:pt x="7293" y="9542"/>
                  <a:pt x="7293" y="9558"/>
                  <a:pt x="7293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25760" y="3911760"/>
            <a:ext cx="1160280" cy="803160"/>
          </a:xfrm>
          <a:custGeom>
            <a:avLst/>
            <a:gdLst/>
            <a:ahLst/>
            <a:rect l="l" t="t" r="r" b="b"/>
            <a:pathLst>
              <a:path w="3226" h="2234">
                <a:moveTo>
                  <a:pt x="4688" y="12229"/>
                </a:moveTo>
                <a:cubicBezTo>
                  <a:pt x="4634" y="12229"/>
                  <a:pt x="4615" y="12223"/>
                  <a:pt x="4564" y="12204"/>
                </a:cubicBezTo>
                <a:cubicBezTo>
                  <a:pt x="4606" y="12303"/>
                  <a:pt x="4677" y="12385"/>
                  <a:pt x="4762" y="12452"/>
                </a:cubicBezTo>
              </a:path>
              <a:path w="3226" h="2234">
                <a:moveTo>
                  <a:pt x="4738" y="12179"/>
                </a:moveTo>
                <a:cubicBezTo>
                  <a:pt x="4728" y="12274"/>
                  <a:pt x="4678" y="12343"/>
                  <a:pt x="4663" y="12427"/>
                </a:cubicBezTo>
                <a:cubicBezTo>
                  <a:pt x="4663" y="12435"/>
                  <a:pt x="4663" y="12444"/>
                  <a:pt x="4663" y="12452"/>
                </a:cubicBezTo>
              </a:path>
              <a:path w="3226" h="2234">
                <a:moveTo>
                  <a:pt x="5904" y="12129"/>
                </a:moveTo>
                <a:cubicBezTo>
                  <a:pt x="5904" y="12060"/>
                  <a:pt x="5943" y="12061"/>
                  <a:pt x="6003" y="12030"/>
                </a:cubicBezTo>
                <a:cubicBezTo>
                  <a:pt x="6043" y="12010"/>
                  <a:pt x="6049" y="12001"/>
                  <a:pt x="6077" y="12005"/>
                </a:cubicBezTo>
                <a:cubicBezTo>
                  <a:pt x="6127" y="12137"/>
                  <a:pt x="6057" y="12209"/>
                  <a:pt x="5953" y="12303"/>
                </a:cubicBezTo>
                <a:cubicBezTo>
                  <a:pt x="5896" y="12354"/>
                  <a:pt x="5829" y="12451"/>
                  <a:pt x="5854" y="12353"/>
                </a:cubicBezTo>
                <a:cubicBezTo>
                  <a:pt x="6001" y="12353"/>
                  <a:pt x="6162" y="12374"/>
                  <a:pt x="6300" y="12328"/>
                </a:cubicBezTo>
              </a:path>
              <a:path w="3226" h="2234">
                <a:moveTo>
                  <a:pt x="4514" y="12551"/>
                </a:moveTo>
                <a:cubicBezTo>
                  <a:pt x="4626" y="12577"/>
                  <a:pt x="4693" y="12558"/>
                  <a:pt x="4812" y="12551"/>
                </a:cubicBezTo>
                <a:cubicBezTo>
                  <a:pt x="5043" y="12538"/>
                  <a:pt x="5277" y="12530"/>
                  <a:pt x="5507" y="12526"/>
                </a:cubicBezTo>
                <a:cubicBezTo>
                  <a:pt x="5674" y="12523"/>
                  <a:pt x="5864" y="12485"/>
                  <a:pt x="6028" y="12502"/>
                </a:cubicBezTo>
                <a:cubicBezTo>
                  <a:pt x="6119" y="12511"/>
                  <a:pt x="6161" y="12526"/>
                  <a:pt x="6251" y="12526"/>
                </a:cubicBezTo>
                <a:cubicBezTo>
                  <a:pt x="6319" y="12526"/>
                  <a:pt x="6320" y="12536"/>
                  <a:pt x="6350" y="12551"/>
                </a:cubicBezTo>
              </a:path>
              <a:path w="3226" h="2234">
                <a:moveTo>
                  <a:pt x="6052" y="12675"/>
                </a:moveTo>
                <a:cubicBezTo>
                  <a:pt x="6052" y="12647"/>
                  <a:pt x="6054" y="12636"/>
                  <a:pt x="6077" y="12626"/>
                </a:cubicBezTo>
                <a:cubicBezTo>
                  <a:pt x="6046" y="12736"/>
                  <a:pt x="5981" y="12833"/>
                  <a:pt x="5953" y="12948"/>
                </a:cubicBezTo>
                <a:cubicBezTo>
                  <a:pt x="5933" y="13033"/>
                  <a:pt x="6000" y="13060"/>
                  <a:pt x="6077" y="13072"/>
                </a:cubicBezTo>
                <a:cubicBezTo>
                  <a:pt x="6181" y="13088"/>
                  <a:pt x="6318" y="13065"/>
                  <a:pt x="6400" y="12998"/>
                </a:cubicBezTo>
                <a:cubicBezTo>
                  <a:pt x="6400" y="12990"/>
                  <a:pt x="6400" y="12981"/>
                  <a:pt x="6400" y="12973"/>
                </a:cubicBezTo>
                <a:cubicBezTo>
                  <a:pt x="6370" y="12902"/>
                  <a:pt x="6309" y="12862"/>
                  <a:pt x="6226" y="12923"/>
                </a:cubicBezTo>
                <a:cubicBezTo>
                  <a:pt x="6180" y="12957"/>
                  <a:pt x="6150" y="13030"/>
                  <a:pt x="6201" y="13047"/>
                </a:cubicBezTo>
              </a:path>
              <a:path w="3226" h="2234">
                <a:moveTo>
                  <a:pt x="5209" y="10889"/>
                </a:moveTo>
                <a:cubicBezTo>
                  <a:pt x="5209" y="10826"/>
                  <a:pt x="5153" y="11046"/>
                  <a:pt x="5159" y="11088"/>
                </a:cubicBezTo>
                <a:cubicBezTo>
                  <a:pt x="5167" y="11096"/>
                  <a:pt x="5176" y="11104"/>
                  <a:pt x="5184" y="11112"/>
                </a:cubicBezTo>
              </a:path>
              <a:path w="3226" h="2234">
                <a:moveTo>
                  <a:pt x="4837" y="12725"/>
                </a:moveTo>
                <a:cubicBezTo>
                  <a:pt x="4931" y="12725"/>
                  <a:pt x="5017" y="12705"/>
                  <a:pt x="5110" y="12700"/>
                </a:cubicBezTo>
                <a:cubicBezTo>
                  <a:pt x="5118" y="12700"/>
                  <a:pt x="5127" y="12700"/>
                  <a:pt x="5135" y="12700"/>
                </a:cubicBezTo>
                <a:cubicBezTo>
                  <a:pt x="5135" y="12781"/>
                  <a:pt x="5066" y="12816"/>
                  <a:pt x="5035" y="12898"/>
                </a:cubicBezTo>
                <a:cubicBezTo>
                  <a:pt x="5017" y="12947"/>
                  <a:pt x="4958" y="13079"/>
                  <a:pt x="5011" y="13097"/>
                </a:cubicBezTo>
              </a:path>
              <a:path w="3226" h="2234">
                <a:moveTo>
                  <a:pt x="5531" y="13022"/>
                </a:moveTo>
                <a:cubicBezTo>
                  <a:pt x="5492" y="12996"/>
                  <a:pt x="5480" y="13039"/>
                  <a:pt x="5457" y="13097"/>
                </a:cubicBezTo>
                <a:cubicBezTo>
                  <a:pt x="5505" y="13075"/>
                  <a:pt x="5569" y="13069"/>
                  <a:pt x="5507" y="13047"/>
                </a:cubicBezTo>
              </a:path>
              <a:path w="3226" h="2234">
                <a:moveTo>
                  <a:pt x="6945" y="12799"/>
                </a:moveTo>
                <a:cubicBezTo>
                  <a:pt x="6990" y="12890"/>
                  <a:pt x="6995" y="12968"/>
                  <a:pt x="6995" y="13072"/>
                </a:cubicBezTo>
              </a:path>
              <a:path w="3226" h="2234">
                <a:moveTo>
                  <a:pt x="6970" y="12526"/>
                </a:moveTo>
                <a:lnTo>
                  <a:pt x="6970" y="12526"/>
                </a:lnTo>
              </a:path>
              <a:path w="3226" h="2234">
                <a:moveTo>
                  <a:pt x="7367" y="12923"/>
                </a:moveTo>
                <a:cubicBezTo>
                  <a:pt x="7386" y="12981"/>
                  <a:pt x="7395" y="12987"/>
                  <a:pt x="7392" y="13022"/>
                </a:cubicBezTo>
                <a:cubicBezTo>
                  <a:pt x="7399" y="12912"/>
                  <a:pt x="7378" y="12773"/>
                  <a:pt x="7516" y="12750"/>
                </a:cubicBezTo>
                <a:cubicBezTo>
                  <a:pt x="7702" y="12719"/>
                  <a:pt x="7732" y="12856"/>
                  <a:pt x="7739" y="12998"/>
                </a:cubicBezTo>
                <a:cubicBezTo>
                  <a:pt x="7739" y="13006"/>
                  <a:pt x="7739" y="13014"/>
                  <a:pt x="7739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76200" y="5589720"/>
            <a:ext cx="1890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3994" y="15999"/>
                </a:moveTo>
                <a:cubicBezTo>
                  <a:pt x="3887" y="15946"/>
                  <a:pt x="3823" y="15803"/>
                  <a:pt x="3671" y="15850"/>
                </a:cubicBezTo>
                <a:cubicBezTo>
                  <a:pt x="3532" y="15893"/>
                  <a:pt x="3553" y="15997"/>
                  <a:pt x="3572" y="16098"/>
                </a:cubicBezTo>
                <a:cubicBezTo>
                  <a:pt x="3813" y="16099"/>
                  <a:pt x="3922" y="15967"/>
                  <a:pt x="3894" y="15701"/>
                </a:cubicBezTo>
                <a:cubicBezTo>
                  <a:pt x="3878" y="15660"/>
                  <a:pt x="3861" y="15618"/>
                  <a:pt x="3845" y="15577"/>
                </a:cubicBezTo>
                <a:cubicBezTo>
                  <a:pt x="3789" y="15486"/>
                  <a:pt x="3860" y="15675"/>
                  <a:pt x="3894" y="15776"/>
                </a:cubicBezTo>
                <a:cubicBezTo>
                  <a:pt x="3951" y="15944"/>
                  <a:pt x="3954" y="16097"/>
                  <a:pt x="4068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8120" y="5653080"/>
            <a:ext cx="982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4465" y="15726"/>
                </a:moveTo>
                <a:cubicBezTo>
                  <a:pt x="4583" y="15719"/>
                  <a:pt x="4713" y="15652"/>
                  <a:pt x="4713" y="15751"/>
                </a:cubicBezTo>
              </a:path>
              <a:path w="274" h="274">
                <a:moveTo>
                  <a:pt x="4514" y="15974"/>
                </a:moveTo>
                <a:cubicBezTo>
                  <a:pt x="4622" y="15952"/>
                  <a:pt x="4649" y="15949"/>
                  <a:pt x="4713" y="15925"/>
                </a:cubicBezTo>
              </a:path>
              <a:path w="274" h="274">
                <a:moveTo>
                  <a:pt x="4713" y="15925"/>
                </a:moveTo>
                <a:lnTo>
                  <a:pt x="4713" y="159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3800" y="5562720"/>
            <a:ext cx="331560" cy="22356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5804" y="15602"/>
                </a:moveTo>
                <a:cubicBezTo>
                  <a:pt x="5782" y="15537"/>
                  <a:pt x="5607" y="15658"/>
                  <a:pt x="5556" y="15677"/>
                </a:cubicBezTo>
                <a:cubicBezTo>
                  <a:pt x="5415" y="15731"/>
                  <a:pt x="5489" y="15674"/>
                  <a:pt x="5482" y="15751"/>
                </a:cubicBezTo>
                <a:cubicBezTo>
                  <a:pt x="5477" y="15816"/>
                  <a:pt x="5457" y="15861"/>
                  <a:pt x="5457" y="15925"/>
                </a:cubicBezTo>
                <a:cubicBezTo>
                  <a:pt x="5558" y="15964"/>
                  <a:pt x="5679" y="15813"/>
                  <a:pt x="5804" y="15801"/>
                </a:cubicBezTo>
                <a:cubicBezTo>
                  <a:pt x="5837" y="15809"/>
                  <a:pt x="5871" y="15817"/>
                  <a:pt x="5904" y="15825"/>
                </a:cubicBezTo>
                <a:cubicBezTo>
                  <a:pt x="5846" y="16006"/>
                  <a:pt x="5789" y="16158"/>
                  <a:pt x="5556" y="16049"/>
                </a:cubicBezTo>
                <a:cubicBezTo>
                  <a:pt x="5556" y="16041"/>
                  <a:pt x="5556" y="16032"/>
                  <a:pt x="5556" y="16024"/>
                </a:cubicBezTo>
              </a:path>
              <a:path w="919" h="621">
                <a:moveTo>
                  <a:pt x="6028" y="15553"/>
                </a:moveTo>
                <a:cubicBezTo>
                  <a:pt x="6032" y="15646"/>
                  <a:pt x="6025" y="15972"/>
                  <a:pt x="6226" y="15875"/>
                </a:cubicBezTo>
                <a:cubicBezTo>
                  <a:pt x="6329" y="15772"/>
                  <a:pt x="6364" y="15734"/>
                  <a:pt x="6375" y="15627"/>
                </a:cubicBezTo>
              </a:path>
              <a:path w="919" h="621">
                <a:moveTo>
                  <a:pt x="6300" y="15453"/>
                </a:moveTo>
                <a:cubicBezTo>
                  <a:pt x="6320" y="15616"/>
                  <a:pt x="6255" y="15915"/>
                  <a:pt x="6300" y="16049"/>
                </a:cubicBezTo>
                <a:cubicBezTo>
                  <a:pt x="6308" y="16032"/>
                  <a:pt x="6317" y="16016"/>
                  <a:pt x="6325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28920" y="5643720"/>
            <a:ext cx="241200" cy="13464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747" y="15701"/>
                </a:moveTo>
                <a:cubicBezTo>
                  <a:pt x="6763" y="15807"/>
                  <a:pt x="6783" y="15918"/>
                  <a:pt x="6796" y="16024"/>
                </a:cubicBezTo>
                <a:cubicBezTo>
                  <a:pt x="6796" y="15925"/>
                  <a:pt x="6773" y="15721"/>
                  <a:pt x="6921" y="15701"/>
                </a:cubicBezTo>
                <a:cubicBezTo>
                  <a:pt x="7080" y="15679"/>
                  <a:pt x="7101" y="15793"/>
                  <a:pt x="7144" y="15900"/>
                </a:cubicBezTo>
                <a:cubicBezTo>
                  <a:pt x="7151" y="15811"/>
                  <a:pt x="7193" y="15553"/>
                  <a:pt x="7342" y="15726"/>
                </a:cubicBezTo>
                <a:cubicBezTo>
                  <a:pt x="7469" y="15872"/>
                  <a:pt x="7441" y="16014"/>
                  <a:pt x="7293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86280" y="125280"/>
            <a:ext cx="822600" cy="463680"/>
          </a:xfrm>
          <a:custGeom>
            <a:avLst/>
            <a:gdLst/>
            <a:ahLst/>
            <a:rect l="l" t="t" r="r" b="b"/>
            <a:pathLst>
              <a:path w="2283" h="1291">
                <a:moveTo>
                  <a:pt x="16842" y="769"/>
                </a:moveTo>
                <a:cubicBezTo>
                  <a:pt x="16842" y="687"/>
                  <a:pt x="16823" y="616"/>
                  <a:pt x="16743" y="571"/>
                </a:cubicBezTo>
                <a:cubicBezTo>
                  <a:pt x="16562" y="469"/>
                  <a:pt x="16426" y="592"/>
                  <a:pt x="16346" y="744"/>
                </a:cubicBezTo>
                <a:cubicBezTo>
                  <a:pt x="16282" y="894"/>
                  <a:pt x="16246" y="928"/>
                  <a:pt x="16321" y="1017"/>
                </a:cubicBezTo>
                <a:cubicBezTo>
                  <a:pt x="16542" y="1017"/>
                  <a:pt x="16853" y="985"/>
                  <a:pt x="16942" y="719"/>
                </a:cubicBezTo>
                <a:cubicBezTo>
                  <a:pt x="16934" y="686"/>
                  <a:pt x="16925" y="653"/>
                  <a:pt x="16917" y="620"/>
                </a:cubicBezTo>
              </a:path>
              <a:path w="2283" h="1291">
                <a:moveTo>
                  <a:pt x="16818" y="347"/>
                </a:moveTo>
                <a:cubicBezTo>
                  <a:pt x="16808" y="539"/>
                  <a:pt x="16789" y="728"/>
                  <a:pt x="16768" y="918"/>
                </a:cubicBezTo>
                <a:cubicBezTo>
                  <a:pt x="16768" y="943"/>
                  <a:pt x="16768" y="951"/>
                  <a:pt x="16768" y="967"/>
                </a:cubicBezTo>
              </a:path>
              <a:path w="2283" h="1291">
                <a:moveTo>
                  <a:pt x="16073" y="1091"/>
                </a:moveTo>
                <a:cubicBezTo>
                  <a:pt x="16340" y="1054"/>
                  <a:pt x="16597" y="1042"/>
                  <a:pt x="16867" y="1042"/>
                </a:cubicBezTo>
                <a:cubicBezTo>
                  <a:pt x="16944" y="1042"/>
                  <a:pt x="16942" y="1030"/>
                  <a:pt x="16991" y="1067"/>
                </a:cubicBezTo>
              </a:path>
              <a:path w="2283" h="1291">
                <a:moveTo>
                  <a:pt x="16520" y="1240"/>
                </a:moveTo>
                <a:cubicBezTo>
                  <a:pt x="16610" y="1217"/>
                  <a:pt x="16634" y="1209"/>
                  <a:pt x="16694" y="1215"/>
                </a:cubicBezTo>
                <a:cubicBezTo>
                  <a:pt x="16676" y="1372"/>
                  <a:pt x="16572" y="1398"/>
                  <a:pt x="16470" y="1513"/>
                </a:cubicBezTo>
                <a:cubicBezTo>
                  <a:pt x="16414" y="1588"/>
                  <a:pt x="16410" y="1601"/>
                  <a:pt x="16371" y="1637"/>
                </a:cubicBezTo>
                <a:cubicBezTo>
                  <a:pt x="16508" y="1630"/>
                  <a:pt x="16688" y="1629"/>
                  <a:pt x="16818" y="1588"/>
                </a:cubicBezTo>
                <a:cubicBezTo>
                  <a:pt x="16826" y="1580"/>
                  <a:pt x="16834" y="1571"/>
                  <a:pt x="16842" y="1563"/>
                </a:cubicBezTo>
              </a:path>
              <a:path w="2283" h="1291">
                <a:moveTo>
                  <a:pt x="17363" y="943"/>
                </a:moveTo>
                <a:cubicBezTo>
                  <a:pt x="17429" y="943"/>
                  <a:pt x="17485" y="930"/>
                  <a:pt x="17537" y="967"/>
                </a:cubicBezTo>
              </a:path>
              <a:path w="2283" h="1291">
                <a:moveTo>
                  <a:pt x="17214" y="1166"/>
                </a:moveTo>
                <a:cubicBezTo>
                  <a:pt x="17346" y="1166"/>
                  <a:pt x="17479" y="1166"/>
                  <a:pt x="17611" y="1166"/>
                </a:cubicBezTo>
              </a:path>
              <a:path w="2283" h="1291">
                <a:moveTo>
                  <a:pt x="17884" y="967"/>
                </a:moveTo>
                <a:cubicBezTo>
                  <a:pt x="17921" y="1051"/>
                  <a:pt x="17946" y="1100"/>
                  <a:pt x="17959" y="1191"/>
                </a:cubicBezTo>
                <a:cubicBezTo>
                  <a:pt x="17959" y="1043"/>
                  <a:pt x="17956" y="967"/>
                  <a:pt x="18083" y="868"/>
                </a:cubicBezTo>
                <a:cubicBezTo>
                  <a:pt x="18168" y="802"/>
                  <a:pt x="18277" y="765"/>
                  <a:pt x="18355" y="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73840" y="1785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594" y="4961"/>
                </a:moveTo>
                <a:lnTo>
                  <a:pt x="16594" y="496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59680" y="1928880"/>
            <a:ext cx="339480" cy="250920"/>
          </a:xfrm>
          <a:custGeom>
            <a:avLst/>
            <a:gdLst/>
            <a:ahLst/>
            <a:rect l="l" t="t" r="r" b="b"/>
            <a:pathLst>
              <a:path w="944" h="695">
                <a:moveTo>
                  <a:pt x="17388" y="5457"/>
                </a:moveTo>
                <a:cubicBezTo>
                  <a:pt x="17660" y="5422"/>
                  <a:pt x="17937" y="5415"/>
                  <a:pt x="18207" y="5383"/>
                </a:cubicBezTo>
                <a:cubicBezTo>
                  <a:pt x="18281" y="5364"/>
                  <a:pt x="18288" y="5356"/>
                  <a:pt x="18331" y="5358"/>
                </a:cubicBezTo>
              </a:path>
              <a:path w="944" h="695">
                <a:moveTo>
                  <a:pt x="17611" y="5606"/>
                </a:moveTo>
                <a:cubicBezTo>
                  <a:pt x="17710" y="5606"/>
                  <a:pt x="17830" y="5586"/>
                  <a:pt x="17909" y="5606"/>
                </a:cubicBezTo>
                <a:cubicBezTo>
                  <a:pt x="17868" y="5799"/>
                  <a:pt x="17759" y="5874"/>
                  <a:pt x="17611" y="6003"/>
                </a:cubicBezTo>
                <a:cubicBezTo>
                  <a:pt x="17589" y="6025"/>
                  <a:pt x="17581" y="6030"/>
                  <a:pt x="17587" y="6052"/>
                </a:cubicBezTo>
                <a:cubicBezTo>
                  <a:pt x="17731" y="6025"/>
                  <a:pt x="17871" y="5981"/>
                  <a:pt x="18008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80200" y="2027160"/>
            <a:ext cx="409680" cy="21456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19943" y="5829"/>
                </a:moveTo>
                <a:cubicBezTo>
                  <a:pt x="19980" y="5958"/>
                  <a:pt x="19993" y="6067"/>
                  <a:pt x="19993" y="6201"/>
                </a:cubicBezTo>
                <a:cubicBezTo>
                  <a:pt x="19993" y="6234"/>
                  <a:pt x="19993" y="6234"/>
                  <a:pt x="19993" y="6176"/>
                </a:cubicBezTo>
                <a:cubicBezTo>
                  <a:pt x="20002" y="5945"/>
                  <a:pt x="19990" y="5758"/>
                  <a:pt x="20241" y="5655"/>
                </a:cubicBezTo>
                <a:cubicBezTo>
                  <a:pt x="20331" y="5618"/>
                  <a:pt x="20443" y="5631"/>
                  <a:pt x="20538" y="5631"/>
                </a:cubicBezTo>
              </a:path>
              <a:path w="1142" h="596">
                <a:moveTo>
                  <a:pt x="20811" y="5680"/>
                </a:moveTo>
                <a:cubicBezTo>
                  <a:pt x="20904" y="5690"/>
                  <a:pt x="20988" y="5705"/>
                  <a:pt x="21084" y="5705"/>
                </a:cubicBezTo>
              </a:path>
              <a:path w="1142" h="596">
                <a:moveTo>
                  <a:pt x="20786" y="5953"/>
                </a:moveTo>
                <a:cubicBezTo>
                  <a:pt x="20901" y="5973"/>
                  <a:pt x="20970" y="5978"/>
                  <a:pt x="21084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31080" y="1946160"/>
            <a:ext cx="652680" cy="250920"/>
          </a:xfrm>
          <a:custGeom>
            <a:avLst/>
            <a:gdLst/>
            <a:ahLst/>
            <a:rect l="l" t="t" r="r" b="b"/>
            <a:pathLst>
              <a:path w="1811" h="696">
                <a:moveTo>
                  <a:pt x="21754" y="5507"/>
                </a:moveTo>
                <a:cubicBezTo>
                  <a:pt x="21784" y="5652"/>
                  <a:pt x="21779" y="5800"/>
                  <a:pt x="21779" y="5953"/>
                </a:cubicBezTo>
                <a:cubicBezTo>
                  <a:pt x="21779" y="6044"/>
                  <a:pt x="21779" y="6052"/>
                  <a:pt x="21779" y="6102"/>
                </a:cubicBezTo>
              </a:path>
              <a:path w="1811" h="696">
                <a:moveTo>
                  <a:pt x="22126" y="5482"/>
                </a:moveTo>
                <a:cubicBezTo>
                  <a:pt x="22144" y="5411"/>
                  <a:pt x="22227" y="5394"/>
                  <a:pt x="22299" y="5407"/>
                </a:cubicBezTo>
                <a:cubicBezTo>
                  <a:pt x="22462" y="5437"/>
                  <a:pt x="22375" y="5647"/>
                  <a:pt x="22324" y="5730"/>
                </a:cubicBezTo>
                <a:cubicBezTo>
                  <a:pt x="22258" y="5838"/>
                  <a:pt x="22120" y="5918"/>
                  <a:pt x="22076" y="6028"/>
                </a:cubicBezTo>
                <a:cubicBezTo>
                  <a:pt x="22186" y="6028"/>
                  <a:pt x="22317" y="6027"/>
                  <a:pt x="22423" y="6003"/>
                </a:cubicBezTo>
                <a:cubicBezTo>
                  <a:pt x="22464" y="5983"/>
                  <a:pt x="22480" y="5964"/>
                  <a:pt x="22473" y="6003"/>
                </a:cubicBezTo>
              </a:path>
              <a:path w="1811" h="696">
                <a:moveTo>
                  <a:pt x="22845" y="5556"/>
                </a:moveTo>
                <a:cubicBezTo>
                  <a:pt x="22845" y="5697"/>
                  <a:pt x="22845" y="5837"/>
                  <a:pt x="22845" y="5978"/>
                </a:cubicBezTo>
                <a:cubicBezTo>
                  <a:pt x="22845" y="5930"/>
                  <a:pt x="22881" y="5768"/>
                  <a:pt x="22944" y="5655"/>
                </a:cubicBezTo>
                <a:cubicBezTo>
                  <a:pt x="23009" y="5537"/>
                  <a:pt x="23113" y="5569"/>
                  <a:pt x="23192" y="5655"/>
                </a:cubicBezTo>
                <a:cubicBezTo>
                  <a:pt x="23255" y="5723"/>
                  <a:pt x="23240" y="5986"/>
                  <a:pt x="23217" y="5804"/>
                </a:cubicBezTo>
                <a:cubicBezTo>
                  <a:pt x="23225" y="5714"/>
                  <a:pt x="23228" y="5605"/>
                  <a:pt x="23341" y="5581"/>
                </a:cubicBezTo>
                <a:cubicBezTo>
                  <a:pt x="23478" y="5551"/>
                  <a:pt x="23564" y="5712"/>
                  <a:pt x="23564" y="5829"/>
                </a:cubicBezTo>
                <a:cubicBezTo>
                  <a:pt x="23564" y="5884"/>
                  <a:pt x="23540" y="5944"/>
                  <a:pt x="23540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32680" y="3106800"/>
            <a:ext cx="447480" cy="243000"/>
          </a:xfrm>
          <a:custGeom>
            <a:avLst/>
            <a:gdLst/>
            <a:ahLst/>
            <a:rect l="l" t="t" r="r" b="b"/>
            <a:pathLst>
              <a:path w="1241" h="671">
                <a:moveTo>
                  <a:pt x="17314" y="8657"/>
                </a:moveTo>
                <a:cubicBezTo>
                  <a:pt x="17411" y="8657"/>
                  <a:pt x="17474" y="8681"/>
                  <a:pt x="17587" y="8682"/>
                </a:cubicBezTo>
                <a:cubicBezTo>
                  <a:pt x="17892" y="8686"/>
                  <a:pt x="18178" y="8669"/>
                  <a:pt x="18479" y="8632"/>
                </a:cubicBezTo>
                <a:cubicBezTo>
                  <a:pt x="18521" y="8632"/>
                  <a:pt x="18529" y="8632"/>
                  <a:pt x="18554" y="8632"/>
                </a:cubicBezTo>
              </a:path>
              <a:path w="1241" h="671">
                <a:moveTo>
                  <a:pt x="17512" y="8880"/>
                </a:moveTo>
                <a:cubicBezTo>
                  <a:pt x="17653" y="8837"/>
                  <a:pt x="17720" y="8811"/>
                  <a:pt x="17859" y="8830"/>
                </a:cubicBezTo>
                <a:cubicBezTo>
                  <a:pt x="17812" y="9043"/>
                  <a:pt x="17694" y="9145"/>
                  <a:pt x="17537" y="9302"/>
                </a:cubicBezTo>
                <a:cubicBezTo>
                  <a:pt x="17707" y="9263"/>
                  <a:pt x="17871" y="9220"/>
                  <a:pt x="18033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43840" y="2894040"/>
            <a:ext cx="1303200" cy="285840"/>
          </a:xfrm>
          <a:custGeom>
            <a:avLst/>
            <a:gdLst/>
            <a:ahLst/>
            <a:rect l="l" t="t" r="r" b="b"/>
            <a:pathLst>
              <a:path w="3622" h="794">
                <a:moveTo>
                  <a:pt x="19844" y="8657"/>
                </a:moveTo>
                <a:cubicBezTo>
                  <a:pt x="19885" y="8745"/>
                  <a:pt x="19965" y="8807"/>
                  <a:pt x="19893" y="8830"/>
                </a:cubicBezTo>
                <a:cubicBezTo>
                  <a:pt x="19824" y="8620"/>
                  <a:pt x="19842" y="8497"/>
                  <a:pt x="20067" y="8409"/>
                </a:cubicBezTo>
                <a:cubicBezTo>
                  <a:pt x="20200" y="8387"/>
                  <a:pt x="20234" y="8374"/>
                  <a:pt x="20315" y="8409"/>
                </a:cubicBezTo>
              </a:path>
              <a:path w="3622" h="794">
                <a:moveTo>
                  <a:pt x="20315" y="8533"/>
                </a:moveTo>
                <a:cubicBezTo>
                  <a:pt x="20415" y="8511"/>
                  <a:pt x="20511" y="8492"/>
                  <a:pt x="20613" y="8483"/>
                </a:cubicBezTo>
              </a:path>
              <a:path w="3622" h="794">
                <a:moveTo>
                  <a:pt x="20414" y="8657"/>
                </a:moveTo>
                <a:cubicBezTo>
                  <a:pt x="20545" y="8604"/>
                  <a:pt x="20594" y="8585"/>
                  <a:pt x="20687" y="8558"/>
                </a:cubicBezTo>
              </a:path>
              <a:path w="3622" h="794">
                <a:moveTo>
                  <a:pt x="21059" y="8210"/>
                </a:moveTo>
                <a:cubicBezTo>
                  <a:pt x="21049" y="8303"/>
                  <a:pt x="21039" y="8390"/>
                  <a:pt x="21034" y="8483"/>
                </a:cubicBezTo>
                <a:cubicBezTo>
                  <a:pt x="21223" y="8535"/>
                  <a:pt x="21286" y="8478"/>
                  <a:pt x="21431" y="8359"/>
                </a:cubicBezTo>
              </a:path>
              <a:path w="3622" h="794">
                <a:moveTo>
                  <a:pt x="21382" y="8086"/>
                </a:moveTo>
                <a:cubicBezTo>
                  <a:pt x="21346" y="8321"/>
                  <a:pt x="21332" y="8521"/>
                  <a:pt x="21357" y="8756"/>
                </a:cubicBezTo>
                <a:cubicBezTo>
                  <a:pt x="21357" y="8781"/>
                  <a:pt x="21357" y="8789"/>
                  <a:pt x="21357" y="8756"/>
                </a:cubicBezTo>
              </a:path>
              <a:path w="3622" h="794">
                <a:moveTo>
                  <a:pt x="21654" y="8632"/>
                </a:moveTo>
                <a:cubicBezTo>
                  <a:pt x="21686" y="8697"/>
                  <a:pt x="21707" y="8702"/>
                  <a:pt x="21754" y="8607"/>
                </a:cubicBezTo>
              </a:path>
              <a:path w="3622" h="794">
                <a:moveTo>
                  <a:pt x="22027" y="8111"/>
                </a:moveTo>
                <a:cubicBezTo>
                  <a:pt x="21901" y="8169"/>
                  <a:pt x="21845" y="8229"/>
                  <a:pt x="21754" y="8334"/>
                </a:cubicBezTo>
                <a:cubicBezTo>
                  <a:pt x="21883" y="8334"/>
                  <a:pt x="22028" y="8313"/>
                  <a:pt x="22151" y="8359"/>
                </a:cubicBezTo>
                <a:cubicBezTo>
                  <a:pt x="22222" y="8407"/>
                  <a:pt x="22245" y="8420"/>
                  <a:pt x="22250" y="8483"/>
                </a:cubicBezTo>
                <a:cubicBezTo>
                  <a:pt x="22109" y="8554"/>
                  <a:pt x="22058" y="8560"/>
                  <a:pt x="21903" y="8508"/>
                </a:cubicBezTo>
              </a:path>
              <a:path w="3622" h="794">
                <a:moveTo>
                  <a:pt x="22696" y="8285"/>
                </a:moveTo>
                <a:cubicBezTo>
                  <a:pt x="22696" y="8394"/>
                  <a:pt x="22691" y="8421"/>
                  <a:pt x="22721" y="8483"/>
                </a:cubicBezTo>
              </a:path>
              <a:path w="3622" h="794">
                <a:moveTo>
                  <a:pt x="22647" y="8037"/>
                </a:moveTo>
                <a:cubicBezTo>
                  <a:pt x="22655" y="8037"/>
                  <a:pt x="22663" y="8037"/>
                  <a:pt x="22671" y="8037"/>
                </a:cubicBezTo>
              </a:path>
              <a:path w="3622" h="794">
                <a:moveTo>
                  <a:pt x="22671" y="8037"/>
                </a:moveTo>
                <a:lnTo>
                  <a:pt x="22671" y="8037"/>
                </a:lnTo>
              </a:path>
              <a:path w="3622" h="794">
                <a:moveTo>
                  <a:pt x="23068" y="8310"/>
                </a:moveTo>
                <a:cubicBezTo>
                  <a:pt x="23088" y="8350"/>
                  <a:pt x="23097" y="8356"/>
                  <a:pt x="23093" y="8384"/>
                </a:cubicBezTo>
                <a:cubicBezTo>
                  <a:pt x="23093" y="8237"/>
                  <a:pt x="23139" y="8155"/>
                  <a:pt x="23292" y="8111"/>
                </a:cubicBezTo>
                <a:cubicBezTo>
                  <a:pt x="23476" y="8058"/>
                  <a:pt x="23461" y="8323"/>
                  <a:pt x="23465" y="8434"/>
                </a:cubicBezTo>
                <a:cubicBezTo>
                  <a:pt x="23465" y="8450"/>
                  <a:pt x="23465" y="8467"/>
                  <a:pt x="23465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86680" y="4241880"/>
            <a:ext cx="571320" cy="258840"/>
          </a:xfrm>
          <a:custGeom>
            <a:avLst/>
            <a:gdLst/>
            <a:ahLst/>
            <a:rect l="l" t="t" r="r" b="b"/>
            <a:pathLst>
              <a:path w="1589" h="721">
                <a:moveTo>
                  <a:pt x="17462" y="11906"/>
                </a:moveTo>
                <a:cubicBezTo>
                  <a:pt x="17640" y="11892"/>
                  <a:pt x="17800" y="11883"/>
                  <a:pt x="17983" y="11881"/>
                </a:cubicBezTo>
                <a:cubicBezTo>
                  <a:pt x="18339" y="11878"/>
                  <a:pt x="18673" y="11826"/>
                  <a:pt x="19025" y="11782"/>
                </a:cubicBezTo>
                <a:cubicBezTo>
                  <a:pt x="19033" y="11782"/>
                  <a:pt x="19042" y="11782"/>
                  <a:pt x="19050" y="11782"/>
                </a:cubicBezTo>
              </a:path>
              <a:path w="1589" h="721">
                <a:moveTo>
                  <a:pt x="18008" y="12055"/>
                </a:moveTo>
                <a:cubicBezTo>
                  <a:pt x="18163" y="12032"/>
                  <a:pt x="18255" y="12002"/>
                  <a:pt x="18380" y="12055"/>
                </a:cubicBezTo>
                <a:cubicBezTo>
                  <a:pt x="18262" y="12221"/>
                  <a:pt x="18128" y="12357"/>
                  <a:pt x="17983" y="12502"/>
                </a:cubicBezTo>
                <a:cubicBezTo>
                  <a:pt x="18184" y="12430"/>
                  <a:pt x="18395" y="12312"/>
                  <a:pt x="18604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73960" y="3990960"/>
            <a:ext cx="1027080" cy="314280"/>
          </a:xfrm>
          <a:custGeom>
            <a:avLst/>
            <a:gdLst/>
            <a:ahLst/>
            <a:rect l="l" t="t" r="r" b="b"/>
            <a:pathLst>
              <a:path w="2853" h="869">
                <a:moveTo>
                  <a:pt x="20786" y="11757"/>
                </a:moveTo>
                <a:cubicBezTo>
                  <a:pt x="20798" y="11819"/>
                  <a:pt x="20837" y="11943"/>
                  <a:pt x="20811" y="11956"/>
                </a:cubicBezTo>
                <a:cubicBezTo>
                  <a:pt x="20730" y="11776"/>
                  <a:pt x="20826" y="11669"/>
                  <a:pt x="21010" y="11584"/>
                </a:cubicBezTo>
                <a:cubicBezTo>
                  <a:pt x="21112" y="11558"/>
                  <a:pt x="21147" y="11551"/>
                  <a:pt x="21208" y="11609"/>
                </a:cubicBezTo>
              </a:path>
              <a:path w="2853" h="869">
                <a:moveTo>
                  <a:pt x="21357" y="11609"/>
                </a:moveTo>
                <a:cubicBezTo>
                  <a:pt x="21431" y="11590"/>
                  <a:pt x="21438" y="11582"/>
                  <a:pt x="21481" y="11584"/>
                </a:cubicBezTo>
              </a:path>
              <a:path w="2853" h="869">
                <a:moveTo>
                  <a:pt x="21357" y="11757"/>
                </a:moveTo>
                <a:cubicBezTo>
                  <a:pt x="21488" y="11705"/>
                  <a:pt x="21537" y="11686"/>
                  <a:pt x="21630" y="11658"/>
                </a:cubicBezTo>
              </a:path>
              <a:path w="2853" h="869">
                <a:moveTo>
                  <a:pt x="21630" y="11658"/>
                </a:moveTo>
                <a:lnTo>
                  <a:pt x="21630" y="11658"/>
                </a:lnTo>
              </a:path>
              <a:path w="2853" h="869">
                <a:moveTo>
                  <a:pt x="21779" y="11212"/>
                </a:moveTo>
                <a:cubicBezTo>
                  <a:pt x="21821" y="11417"/>
                  <a:pt x="21682" y="11952"/>
                  <a:pt x="21853" y="11832"/>
                </a:cubicBezTo>
                <a:cubicBezTo>
                  <a:pt x="21903" y="11766"/>
                  <a:pt x="21952" y="11699"/>
                  <a:pt x="22002" y="11633"/>
                </a:cubicBezTo>
              </a:path>
              <a:path w="2853" h="869">
                <a:moveTo>
                  <a:pt x="22200" y="11212"/>
                </a:moveTo>
                <a:cubicBezTo>
                  <a:pt x="22061" y="11508"/>
                  <a:pt x="22264" y="11394"/>
                  <a:pt x="22423" y="11609"/>
                </a:cubicBezTo>
                <a:cubicBezTo>
                  <a:pt x="22448" y="11709"/>
                  <a:pt x="22456" y="11742"/>
                  <a:pt x="22374" y="11782"/>
                </a:cubicBezTo>
                <a:cubicBezTo>
                  <a:pt x="22173" y="11647"/>
                  <a:pt x="22341" y="11480"/>
                  <a:pt x="22423" y="11261"/>
                </a:cubicBezTo>
                <a:cubicBezTo>
                  <a:pt x="22423" y="11253"/>
                  <a:pt x="22423" y="11245"/>
                  <a:pt x="22423" y="11237"/>
                </a:cubicBezTo>
              </a:path>
              <a:path w="2853" h="869">
                <a:moveTo>
                  <a:pt x="22796" y="11435"/>
                </a:moveTo>
                <a:cubicBezTo>
                  <a:pt x="22822" y="11491"/>
                  <a:pt x="22894" y="11762"/>
                  <a:pt x="22920" y="11633"/>
                </a:cubicBezTo>
              </a:path>
              <a:path w="2853" h="869">
                <a:moveTo>
                  <a:pt x="22820" y="11088"/>
                </a:moveTo>
                <a:cubicBezTo>
                  <a:pt x="22828" y="11096"/>
                  <a:pt x="22837" y="11104"/>
                  <a:pt x="22845" y="11112"/>
                </a:cubicBezTo>
              </a:path>
              <a:path w="2853" h="869">
                <a:moveTo>
                  <a:pt x="22845" y="11112"/>
                </a:moveTo>
                <a:lnTo>
                  <a:pt x="22845" y="11112"/>
                </a:lnTo>
              </a:path>
              <a:path w="2853" h="869">
                <a:moveTo>
                  <a:pt x="23242" y="11584"/>
                </a:moveTo>
                <a:cubicBezTo>
                  <a:pt x="23242" y="11591"/>
                  <a:pt x="23242" y="11674"/>
                  <a:pt x="23242" y="11609"/>
                </a:cubicBezTo>
                <a:cubicBezTo>
                  <a:pt x="23214" y="11511"/>
                  <a:pt x="23255" y="11359"/>
                  <a:pt x="23391" y="11336"/>
                </a:cubicBezTo>
                <a:cubicBezTo>
                  <a:pt x="23495" y="11318"/>
                  <a:pt x="23614" y="11549"/>
                  <a:pt x="23614" y="11633"/>
                </a:cubicBezTo>
                <a:cubicBezTo>
                  <a:pt x="23606" y="11633"/>
                  <a:pt x="23597" y="11633"/>
                  <a:pt x="23589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59680" y="5419800"/>
            <a:ext cx="536400" cy="322200"/>
          </a:xfrm>
          <a:custGeom>
            <a:avLst/>
            <a:gdLst/>
            <a:ahLst/>
            <a:rect l="l" t="t" r="r" b="b"/>
            <a:pathLst>
              <a:path w="1489" h="894">
                <a:moveTo>
                  <a:pt x="17388" y="15304"/>
                </a:moveTo>
                <a:cubicBezTo>
                  <a:pt x="17621" y="15293"/>
                  <a:pt x="17825" y="15251"/>
                  <a:pt x="18058" y="15205"/>
                </a:cubicBezTo>
                <a:cubicBezTo>
                  <a:pt x="18266" y="15164"/>
                  <a:pt x="18652" y="15021"/>
                  <a:pt x="18876" y="15056"/>
                </a:cubicBezTo>
                <a:cubicBezTo>
                  <a:pt x="18876" y="15073"/>
                  <a:pt x="18876" y="15089"/>
                  <a:pt x="18876" y="15106"/>
                </a:cubicBezTo>
              </a:path>
              <a:path w="1489" h="894">
                <a:moveTo>
                  <a:pt x="18058" y="15553"/>
                </a:moveTo>
                <a:cubicBezTo>
                  <a:pt x="18156" y="15512"/>
                  <a:pt x="18224" y="15488"/>
                  <a:pt x="18331" y="15478"/>
                </a:cubicBezTo>
                <a:cubicBezTo>
                  <a:pt x="18228" y="15661"/>
                  <a:pt x="18084" y="15799"/>
                  <a:pt x="17934" y="15949"/>
                </a:cubicBezTo>
                <a:cubicBezTo>
                  <a:pt x="18136" y="15922"/>
                  <a:pt x="18308" y="15847"/>
                  <a:pt x="18504" y="15801"/>
                </a:cubicBezTo>
                <a:cubicBezTo>
                  <a:pt x="18512" y="15801"/>
                  <a:pt x="18521" y="15801"/>
                  <a:pt x="18529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9200" y="5464080"/>
            <a:ext cx="758880" cy="243000"/>
          </a:xfrm>
          <a:custGeom>
            <a:avLst/>
            <a:gdLst/>
            <a:ahLst/>
            <a:rect l="l" t="t" r="r" b="b"/>
            <a:pathLst>
              <a:path w="2109" h="671">
                <a:moveTo>
                  <a:pt x="19720" y="15379"/>
                </a:moveTo>
                <a:cubicBezTo>
                  <a:pt x="19742" y="15504"/>
                  <a:pt x="19779" y="15622"/>
                  <a:pt x="19794" y="15751"/>
                </a:cubicBezTo>
                <a:cubicBezTo>
                  <a:pt x="19794" y="15743"/>
                  <a:pt x="19794" y="15734"/>
                  <a:pt x="19794" y="15726"/>
                </a:cubicBezTo>
                <a:cubicBezTo>
                  <a:pt x="19756" y="15574"/>
                  <a:pt x="19759" y="15423"/>
                  <a:pt x="19918" y="15329"/>
                </a:cubicBezTo>
                <a:cubicBezTo>
                  <a:pt x="20035" y="15260"/>
                  <a:pt x="20162" y="15280"/>
                  <a:pt x="20290" y="15280"/>
                </a:cubicBezTo>
              </a:path>
              <a:path w="2109" h="671">
                <a:moveTo>
                  <a:pt x="20489" y="15329"/>
                </a:moveTo>
                <a:cubicBezTo>
                  <a:pt x="20555" y="15329"/>
                  <a:pt x="20621" y="15329"/>
                  <a:pt x="20687" y="15329"/>
                </a:cubicBezTo>
              </a:path>
              <a:path w="2109" h="671">
                <a:moveTo>
                  <a:pt x="20489" y="15553"/>
                </a:moveTo>
                <a:cubicBezTo>
                  <a:pt x="20585" y="15521"/>
                  <a:pt x="20685" y="15501"/>
                  <a:pt x="20786" y="15478"/>
                </a:cubicBezTo>
              </a:path>
              <a:path w="2109" h="671">
                <a:moveTo>
                  <a:pt x="21183" y="15255"/>
                </a:moveTo>
                <a:cubicBezTo>
                  <a:pt x="21248" y="15233"/>
                  <a:pt x="21228" y="15293"/>
                  <a:pt x="21233" y="15379"/>
                </a:cubicBezTo>
                <a:cubicBezTo>
                  <a:pt x="21233" y="15387"/>
                  <a:pt x="21233" y="15396"/>
                  <a:pt x="21233" y="15404"/>
                </a:cubicBezTo>
                <a:cubicBezTo>
                  <a:pt x="21240" y="15367"/>
                  <a:pt x="21261" y="15307"/>
                  <a:pt x="21282" y="15280"/>
                </a:cubicBezTo>
                <a:cubicBezTo>
                  <a:pt x="21323" y="15229"/>
                  <a:pt x="21393" y="15211"/>
                  <a:pt x="21456" y="15205"/>
                </a:cubicBezTo>
                <a:cubicBezTo>
                  <a:pt x="21499" y="15201"/>
                  <a:pt x="21516" y="15184"/>
                  <a:pt x="21555" y="15180"/>
                </a:cubicBezTo>
                <a:cubicBezTo>
                  <a:pt x="21563" y="15180"/>
                  <a:pt x="21572" y="15180"/>
                  <a:pt x="21580" y="15180"/>
                </a:cubicBezTo>
                <a:cubicBezTo>
                  <a:pt x="21554" y="15334"/>
                  <a:pt x="21455" y="15457"/>
                  <a:pt x="21406" y="15602"/>
                </a:cubicBezTo>
                <a:cubicBezTo>
                  <a:pt x="21381" y="15675"/>
                  <a:pt x="21296" y="15778"/>
                  <a:pt x="21357" y="15825"/>
                </a:cubicBezTo>
                <a:cubicBezTo>
                  <a:pt x="21382" y="15825"/>
                  <a:pt x="21390" y="15825"/>
                  <a:pt x="21382" y="15850"/>
                </a:cubicBezTo>
              </a:path>
              <a:path w="2109" h="671">
                <a:moveTo>
                  <a:pt x="21828" y="15801"/>
                </a:moveTo>
                <a:cubicBezTo>
                  <a:pt x="21828" y="15793"/>
                  <a:pt x="21828" y="15784"/>
                  <a:pt x="21828" y="15776"/>
                </a:cubicBezTo>
                <a:cubicBezTo>
                  <a:pt x="21790" y="15789"/>
                  <a:pt x="21803" y="15805"/>
                  <a:pt x="21803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9000" y="5875200"/>
            <a:ext cx="865080" cy="822600"/>
          </a:xfrm>
          <a:custGeom>
            <a:avLst/>
            <a:gdLst/>
            <a:ahLst/>
            <a:rect l="l" t="t" r="r" b="b"/>
            <a:pathLst>
              <a:path w="2407" h="2284">
                <a:moveTo>
                  <a:pt x="20092" y="17214"/>
                </a:moveTo>
                <a:cubicBezTo>
                  <a:pt x="20106" y="17342"/>
                  <a:pt x="20098" y="17455"/>
                  <a:pt x="20092" y="17587"/>
                </a:cubicBezTo>
                <a:cubicBezTo>
                  <a:pt x="20092" y="17656"/>
                  <a:pt x="20120" y="17629"/>
                  <a:pt x="20191" y="17487"/>
                </a:cubicBezTo>
              </a:path>
              <a:path w="2407" h="2284">
                <a:moveTo>
                  <a:pt x="20563" y="17066"/>
                </a:moveTo>
                <a:cubicBezTo>
                  <a:pt x="20528" y="17071"/>
                  <a:pt x="20458" y="17076"/>
                  <a:pt x="20439" y="17115"/>
                </a:cubicBezTo>
                <a:cubicBezTo>
                  <a:pt x="20409" y="17174"/>
                  <a:pt x="20382" y="17253"/>
                  <a:pt x="20365" y="17314"/>
                </a:cubicBezTo>
                <a:cubicBezTo>
                  <a:pt x="20505" y="17294"/>
                  <a:pt x="20567" y="17223"/>
                  <a:pt x="20712" y="17264"/>
                </a:cubicBezTo>
                <a:cubicBezTo>
                  <a:pt x="20800" y="17308"/>
                  <a:pt x="20833" y="17313"/>
                  <a:pt x="20811" y="17388"/>
                </a:cubicBezTo>
                <a:cubicBezTo>
                  <a:pt x="20701" y="17477"/>
                  <a:pt x="20627" y="17512"/>
                  <a:pt x="20489" y="17487"/>
                </a:cubicBezTo>
              </a:path>
              <a:path w="2407" h="2284">
                <a:moveTo>
                  <a:pt x="19943" y="17735"/>
                </a:moveTo>
                <a:cubicBezTo>
                  <a:pt x="19899" y="17551"/>
                  <a:pt x="19898" y="17375"/>
                  <a:pt x="19869" y="17190"/>
                </a:cubicBezTo>
                <a:cubicBezTo>
                  <a:pt x="19850" y="17096"/>
                  <a:pt x="19863" y="17076"/>
                  <a:pt x="19819" y="17041"/>
                </a:cubicBezTo>
                <a:cubicBezTo>
                  <a:pt x="19974" y="17028"/>
                  <a:pt x="20087" y="16986"/>
                  <a:pt x="20241" y="16942"/>
                </a:cubicBezTo>
                <a:cubicBezTo>
                  <a:pt x="20473" y="16876"/>
                  <a:pt x="20706" y="16811"/>
                  <a:pt x="20935" y="16743"/>
                </a:cubicBezTo>
                <a:cubicBezTo>
                  <a:pt x="20943" y="16743"/>
                  <a:pt x="20952" y="16743"/>
                  <a:pt x="20960" y="16743"/>
                </a:cubicBezTo>
              </a:path>
              <a:path w="2407" h="2284">
                <a:moveTo>
                  <a:pt x="19273" y="17462"/>
                </a:moveTo>
                <a:cubicBezTo>
                  <a:pt x="19339" y="17408"/>
                  <a:pt x="19388" y="17377"/>
                  <a:pt x="19472" y="17363"/>
                </a:cubicBezTo>
                <a:cubicBezTo>
                  <a:pt x="19451" y="17488"/>
                  <a:pt x="19376" y="17573"/>
                  <a:pt x="19323" y="17686"/>
                </a:cubicBezTo>
                <a:cubicBezTo>
                  <a:pt x="19304" y="17743"/>
                  <a:pt x="19295" y="17750"/>
                  <a:pt x="19298" y="17785"/>
                </a:cubicBezTo>
                <a:cubicBezTo>
                  <a:pt x="19400" y="17770"/>
                  <a:pt x="19507" y="17742"/>
                  <a:pt x="19596" y="17686"/>
                </a:cubicBezTo>
                <a:cubicBezTo>
                  <a:pt x="19604" y="17678"/>
                  <a:pt x="19613" y="17669"/>
                  <a:pt x="19621" y="17661"/>
                </a:cubicBezTo>
              </a:path>
              <a:path w="2407" h="2284">
                <a:moveTo>
                  <a:pt x="20141" y="16520"/>
                </a:moveTo>
                <a:cubicBezTo>
                  <a:pt x="20100" y="16520"/>
                  <a:pt x="20060" y="16582"/>
                  <a:pt x="20042" y="16545"/>
                </a:cubicBezTo>
                <a:cubicBezTo>
                  <a:pt x="20031" y="16522"/>
                  <a:pt x="20076" y="16497"/>
                  <a:pt x="20092" y="16495"/>
                </a:cubicBezTo>
                <a:cubicBezTo>
                  <a:pt x="20146" y="16488"/>
                  <a:pt x="20186" y="16451"/>
                  <a:pt x="20241" y="16446"/>
                </a:cubicBezTo>
                <a:cubicBezTo>
                  <a:pt x="20265" y="16446"/>
                  <a:pt x="20274" y="16446"/>
                  <a:pt x="20290" y="16446"/>
                </a:cubicBezTo>
                <a:cubicBezTo>
                  <a:pt x="20275" y="16531"/>
                  <a:pt x="20264" y="16636"/>
                  <a:pt x="20241" y="16718"/>
                </a:cubicBezTo>
                <a:cubicBezTo>
                  <a:pt x="20212" y="16820"/>
                  <a:pt x="20232" y="16751"/>
                  <a:pt x="20241" y="16818"/>
                </a:cubicBezTo>
                <a:cubicBezTo>
                  <a:pt x="20241" y="16826"/>
                  <a:pt x="20241" y="16834"/>
                  <a:pt x="20241" y="16842"/>
                </a:cubicBezTo>
              </a:path>
              <a:path w="2407" h="2284">
                <a:moveTo>
                  <a:pt x="20439" y="17785"/>
                </a:moveTo>
                <a:cubicBezTo>
                  <a:pt x="20444" y="17771"/>
                  <a:pt x="20475" y="17712"/>
                  <a:pt x="20464" y="17760"/>
                </a:cubicBezTo>
                <a:cubicBezTo>
                  <a:pt x="20441" y="17862"/>
                  <a:pt x="20439" y="17954"/>
                  <a:pt x="20439" y="18058"/>
                </a:cubicBezTo>
              </a:path>
              <a:path w="2407" h="2284">
                <a:moveTo>
                  <a:pt x="20687" y="17686"/>
                </a:moveTo>
                <a:cubicBezTo>
                  <a:pt x="20687" y="17719"/>
                  <a:pt x="20687" y="17752"/>
                  <a:pt x="20687" y="17785"/>
                </a:cubicBezTo>
                <a:cubicBezTo>
                  <a:pt x="20769" y="17785"/>
                  <a:pt x="20811" y="17747"/>
                  <a:pt x="20861" y="17711"/>
                </a:cubicBezTo>
                <a:cubicBezTo>
                  <a:pt x="20901" y="17691"/>
                  <a:pt x="20917" y="17692"/>
                  <a:pt x="20910" y="17661"/>
                </a:cubicBezTo>
              </a:path>
              <a:path w="2407" h="2284">
                <a:moveTo>
                  <a:pt x="20910" y="17512"/>
                </a:moveTo>
                <a:cubicBezTo>
                  <a:pt x="20897" y="17622"/>
                  <a:pt x="20886" y="17729"/>
                  <a:pt x="20861" y="17835"/>
                </a:cubicBezTo>
              </a:path>
              <a:path w="2407" h="2284">
                <a:moveTo>
                  <a:pt x="19918" y="18033"/>
                </a:moveTo>
                <a:cubicBezTo>
                  <a:pt x="20005" y="17975"/>
                  <a:pt x="20043" y="17950"/>
                  <a:pt x="20141" y="17934"/>
                </a:cubicBezTo>
              </a:path>
              <a:path w="2407" h="2284">
                <a:moveTo>
                  <a:pt x="20290" y="18281"/>
                </a:moveTo>
                <a:cubicBezTo>
                  <a:pt x="20496" y="18163"/>
                  <a:pt x="20705" y="18018"/>
                  <a:pt x="20910" y="17909"/>
                </a:cubicBezTo>
                <a:cubicBezTo>
                  <a:pt x="20918" y="17909"/>
                  <a:pt x="20927" y="17909"/>
                  <a:pt x="20935" y="17909"/>
                </a:cubicBezTo>
              </a:path>
              <a:path w="2407" h="2284">
                <a:moveTo>
                  <a:pt x="20960" y="18306"/>
                </a:moveTo>
                <a:cubicBezTo>
                  <a:pt x="20960" y="18405"/>
                  <a:pt x="20960" y="18505"/>
                  <a:pt x="20960" y="18604"/>
                </a:cubicBezTo>
              </a:path>
              <a:path w="2407" h="2284">
                <a:moveTo>
                  <a:pt x="21010" y="17438"/>
                </a:moveTo>
                <a:cubicBezTo>
                  <a:pt x="21010" y="17430"/>
                  <a:pt x="21010" y="17421"/>
                  <a:pt x="21010" y="17413"/>
                </a:cubicBezTo>
              </a:path>
              <a:path w="2407" h="2284">
                <a:moveTo>
                  <a:pt x="20687" y="16694"/>
                </a:moveTo>
                <a:cubicBezTo>
                  <a:pt x="20687" y="16686"/>
                  <a:pt x="20687" y="16677"/>
                  <a:pt x="20687" y="16669"/>
                </a:cubicBezTo>
                <a:cubicBezTo>
                  <a:pt x="20677" y="16710"/>
                  <a:pt x="20610" y="16756"/>
                  <a:pt x="20662" y="16793"/>
                </a:cubicBezTo>
                <a:cubicBezTo>
                  <a:pt x="20670" y="16793"/>
                  <a:pt x="20679" y="16793"/>
                  <a:pt x="20687" y="16793"/>
                </a:cubicBezTo>
              </a:path>
              <a:path w="2407" h="2284">
                <a:moveTo>
                  <a:pt x="21183" y="16818"/>
                </a:moveTo>
                <a:cubicBezTo>
                  <a:pt x="21086" y="16915"/>
                  <a:pt x="21085" y="17033"/>
                  <a:pt x="21158" y="17165"/>
                </a:cubicBezTo>
                <a:cubicBezTo>
                  <a:pt x="21175" y="17181"/>
                  <a:pt x="21191" y="17198"/>
                  <a:pt x="21208" y="17214"/>
                </a:cubicBezTo>
                <a:cubicBezTo>
                  <a:pt x="21276" y="17164"/>
                  <a:pt x="21407" y="16980"/>
                  <a:pt x="21258" y="16917"/>
                </a:cubicBezTo>
                <a:cubicBezTo>
                  <a:pt x="21200" y="16936"/>
                  <a:pt x="21175" y="16926"/>
                  <a:pt x="21183" y="16966"/>
                </a:cubicBezTo>
              </a:path>
              <a:path w="2407" h="2284">
                <a:moveTo>
                  <a:pt x="21233" y="17338"/>
                </a:moveTo>
                <a:cubicBezTo>
                  <a:pt x="21279" y="17457"/>
                  <a:pt x="21301" y="17567"/>
                  <a:pt x="21332" y="17686"/>
                </a:cubicBezTo>
                <a:cubicBezTo>
                  <a:pt x="21352" y="17726"/>
                  <a:pt x="21361" y="17752"/>
                  <a:pt x="21357" y="17711"/>
                </a:cubicBezTo>
              </a:path>
              <a:path w="2407" h="2284">
                <a:moveTo>
                  <a:pt x="21481" y="18207"/>
                </a:moveTo>
                <a:cubicBezTo>
                  <a:pt x="21434" y="18312"/>
                  <a:pt x="21423" y="18370"/>
                  <a:pt x="21456" y="18479"/>
                </a:cubicBezTo>
                <a:cubicBezTo>
                  <a:pt x="21602" y="18504"/>
                  <a:pt x="21691" y="18455"/>
                  <a:pt x="21679" y="18281"/>
                </a:cubicBezTo>
                <a:cubicBezTo>
                  <a:pt x="21668" y="18122"/>
                  <a:pt x="21549" y="18203"/>
                  <a:pt x="21481" y="18256"/>
                </a:cubicBezTo>
              </a:path>
              <a:path w="2407" h="2284">
                <a:moveTo>
                  <a:pt x="21183" y="16321"/>
                </a:moveTo>
                <a:cubicBezTo>
                  <a:pt x="21191" y="16329"/>
                  <a:pt x="21200" y="16338"/>
                  <a:pt x="21208" y="16346"/>
                </a:cubicBezTo>
                <a:cubicBezTo>
                  <a:pt x="21161" y="16370"/>
                  <a:pt x="21096" y="16384"/>
                  <a:pt x="21084" y="16421"/>
                </a:cubicBezTo>
              </a:path>
              <a:path w="2407" h="2284">
                <a:moveTo>
                  <a:pt x="21059" y="16421"/>
                </a:moveTo>
                <a:lnTo>
                  <a:pt x="21059" y="16421"/>
                </a:lnTo>
              </a:path>
              <a:path w="2407" h="2284">
                <a:moveTo>
                  <a:pt x="21059" y="16421"/>
                </a:moveTo>
                <a:cubicBezTo>
                  <a:pt x="21077" y="16492"/>
                  <a:pt x="21093" y="16557"/>
                  <a:pt x="21109" y="16619"/>
                </a:cubicBezTo>
                <a:cubicBezTo>
                  <a:pt x="21154" y="16580"/>
                  <a:pt x="21225" y="16497"/>
                  <a:pt x="21282" y="16570"/>
                </a:cubicBezTo>
                <a:cubicBezTo>
                  <a:pt x="21336" y="16640"/>
                  <a:pt x="21308" y="16727"/>
                  <a:pt x="21233" y="16768"/>
                </a:cubicBezTo>
                <a:cubicBezTo>
                  <a:pt x="21160" y="16808"/>
                  <a:pt x="21108" y="16776"/>
                  <a:pt x="21034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74000" y="5473800"/>
            <a:ext cx="590400" cy="206280"/>
          </a:xfrm>
          <a:custGeom>
            <a:avLst/>
            <a:gdLst/>
            <a:ahLst/>
            <a:rect l="l" t="t" r="r" b="b"/>
            <a:pathLst>
              <a:path w="1638" h="572">
                <a:moveTo>
                  <a:pt x="22399" y="15205"/>
                </a:moveTo>
                <a:cubicBezTo>
                  <a:pt x="22368" y="15229"/>
                  <a:pt x="22251" y="15331"/>
                  <a:pt x="22200" y="15280"/>
                </a:cubicBezTo>
                <a:cubicBezTo>
                  <a:pt x="22170" y="15250"/>
                  <a:pt x="22164" y="15262"/>
                  <a:pt x="22151" y="15354"/>
                </a:cubicBezTo>
                <a:cubicBezTo>
                  <a:pt x="22144" y="15404"/>
                  <a:pt x="22165" y="15412"/>
                  <a:pt x="22175" y="15453"/>
                </a:cubicBezTo>
                <a:cubicBezTo>
                  <a:pt x="22266" y="15453"/>
                  <a:pt x="22319" y="15409"/>
                  <a:pt x="22423" y="15404"/>
                </a:cubicBezTo>
                <a:cubicBezTo>
                  <a:pt x="22592" y="15395"/>
                  <a:pt x="22683" y="15536"/>
                  <a:pt x="22547" y="15677"/>
                </a:cubicBezTo>
                <a:cubicBezTo>
                  <a:pt x="22464" y="15763"/>
                  <a:pt x="22274" y="15807"/>
                  <a:pt x="22200" y="15751"/>
                </a:cubicBezTo>
              </a:path>
              <a:path w="1638" h="572">
                <a:moveTo>
                  <a:pt x="22969" y="15379"/>
                </a:moveTo>
                <a:cubicBezTo>
                  <a:pt x="23001" y="15462"/>
                  <a:pt x="23036" y="15543"/>
                  <a:pt x="23068" y="15627"/>
                </a:cubicBezTo>
                <a:cubicBezTo>
                  <a:pt x="23048" y="15525"/>
                  <a:pt x="23038" y="15432"/>
                  <a:pt x="23143" y="15354"/>
                </a:cubicBezTo>
                <a:cubicBezTo>
                  <a:pt x="23304" y="15234"/>
                  <a:pt x="23369" y="15374"/>
                  <a:pt x="23465" y="15478"/>
                </a:cubicBezTo>
                <a:cubicBezTo>
                  <a:pt x="23509" y="15544"/>
                  <a:pt x="23408" y="15464"/>
                  <a:pt x="23465" y="15404"/>
                </a:cubicBezTo>
                <a:cubicBezTo>
                  <a:pt x="23600" y="15262"/>
                  <a:pt x="23754" y="15443"/>
                  <a:pt x="23788" y="15577"/>
                </a:cubicBezTo>
                <a:cubicBezTo>
                  <a:pt x="23788" y="15652"/>
                  <a:pt x="23788" y="15660"/>
                  <a:pt x="23788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pg. 135 1-5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56:47Z</dcterms:created>
  <dc:creator>deanne elizabeth mcgrath</dc:creator>
  <dc:description/>
  <dc:language>en-US</dc:language>
  <cp:lastModifiedBy>deanne elizabeth mcgrath</cp:lastModifiedBy>
  <dcterms:modified xsi:type="dcterms:W3CDTF">2011-02-16T18:57:18Z</dcterms:modified>
  <cp:revision>1</cp:revision>
  <dc:subject/>
  <dc:title>Warm-up:  MSA Practice Day 5</dc:title>
</cp:coreProperties>
</file>